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79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80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81"/>
          </p:nvPr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5FF0-0B0A-40C8-BB8C-F8E369946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6EE-9773-47F7-85F2-9D262774E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40C-074A-4977-BB0C-AF85762662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9C9-5F19-41DC-8DEA-9A6482684F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972D-DE93-4766-A87F-1C9C4C3463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04680" y="4706640"/>
            <a:ext cx="497196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84336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0BE-6CDC-41C4-840E-0B99D806D37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3E99-57AD-4115-B104-BBD79EB8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F91B-FCD0-4DCB-843D-FD5801E5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939A-89D6-46EB-9ECA-056147B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2284-A967-44E6-B04D-E350DE4A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E34A-A4A9-4E38-B8AC-DD30C048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899B-E65A-4D38-8B61-08E264E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8A724-5F4D-4DCC-AD84-D2963652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90CE-5EA4-42AD-B2EB-447A90D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7D45A-1014-40AD-8DAB-F9800E79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C2E47-3A48-4FE8-A840-BF08F386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194CB-4C46-4C46-8E7E-783A9D53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BE65E-D20B-4C53-AA9A-E090AD94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DD87-7234-4D49-B213-28408E39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15940-0C3C-4BFE-A474-9760DE27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014E5-3894-49F8-8188-F3968D7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7F227-C8C3-4078-8824-6F8C59ED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8D9D3-DC86-4D1C-AE09-8188E4D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5B788-E09F-4FFC-B4DE-E00B9080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4DB8-AD56-415F-BC13-0EC4978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C0EC6-E196-450F-9C64-0B7EA0A3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877F6-2519-45AF-8D39-969C8B2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F97A1-05E6-4B93-B55C-7F120EC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E8B21-FF87-4D2C-8A65-127FA4A8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2073-8D02-4834-B6F6-37866A35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6F6E-349F-4B69-AF3C-DF05987D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75601-BE19-480A-A9EC-956B87FA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41EF3-38A1-48FB-9049-26F59C1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53C12-3549-4637-B3E6-45F7A98B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84F1E-4122-4A79-9E73-CC3C44B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3D693-6F65-4D46-8541-9BBC1B90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B6DB3-31FD-4C56-A121-199C0B16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5973B-7A03-4245-B46B-D81913D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82CC6-6B67-4667-9343-1517E865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8B81A-3931-42DA-B79A-E2A0568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58E2-8AFC-4A03-B8AB-37D72044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9F246-55BC-4D29-9C2B-20D76E65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7B985-8E79-4B42-BEBC-4D2711B7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5AEB-00EA-403B-AF1C-C44E258A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D91B-2251-4654-9BDA-B28318C7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A06AD-680B-436E-9EB9-144A4427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5026-79E0-4079-BC29-065549A0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4E5A4-445F-405B-A877-BD3177D5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EDBE4-AC24-4B4A-90D9-E442A7AB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D94F7-C047-4F1D-8438-8373B56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6A4A9-AFB1-457F-A78F-BB305894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114A-7FEE-4C8C-946F-13CE7D20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98D8-68F6-4FB2-A639-359DEF4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C3F9E-09B9-4253-875C-830BB64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09A5-FA1C-42C4-B67A-D7C10C6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19233-0128-48CA-ACF7-A81A6FE5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64008-7BAE-434B-9118-FA61FBD6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D1484-9A29-4CEF-A666-DF4121D2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94E86-1E23-43D2-AC29-DBCFFA6E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45C87-F7BB-4E7D-8B3D-E6807970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88A68-B1F2-467A-A58C-CF17035A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36EC8-F6E8-4723-92F0-7C3049BB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A62B-1575-4512-8BF1-0E3B429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846B2-2837-4A26-A0D3-125B395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E77E0-4467-4942-BB59-12B2577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B42A9-24B3-4E92-8F50-FF7BB96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5C757-76A1-4A7B-92B8-E6DA55F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2CED8-2384-49C0-9A72-BD713637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FA935-215D-4A85-838E-1BEBCE5E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1358C-CB08-44A7-8A27-24AEFB57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AF266-6725-4FB4-8737-86E92672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10D2C-667A-41F3-9FC8-85A0DDA4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381F0-FF51-4A58-A296-D67A05DA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05E1-3B9E-4375-B010-3194405C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7AD8C-831A-4260-BF58-2CB73687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308551-650E-459F-A696-FBDF92DE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92F94-7F4D-409A-86A1-71B2D5D4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34229-773F-40E4-835A-FA39662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14687-7A8A-4358-9D4F-D4EF26D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0B130-2973-4CAC-BAE5-3D619825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A4AEE-69DD-4D0D-89D8-0C66D24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1A24A-3B48-42E4-B0A8-39B693FC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7E85C-34B3-4500-8965-D7B39B94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CD9AD-613E-4C50-B817-A27709CE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FE0C-8FC9-43FC-BC7B-6E8A535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CEC37-2713-4F27-89DD-60D17CDD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AB75A-F274-45C5-8DCF-26F5BF5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7BA1F-3D89-41D0-A86C-CA81DAC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59E47-E410-43E5-9750-81C60A4D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8512B-8936-4D18-8CE1-B63B61A0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D28E6-BC8F-41B5-A4DD-E9DDD53E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E460A-708F-47A1-93CD-B57D008D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EE3E9-9D06-48F2-8B58-B9E6369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4C6F9-F07D-4EEC-88B0-1C36C920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C69ED-D8F6-4626-8AF5-40C137EF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92A1-837F-43FA-9DD1-C54936C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D95E8-DD95-488E-A0D3-3B47456C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5C9E0-ACF6-413F-90B3-0DFA751D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2AFFD-72E5-4C89-871F-C6B48EE3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7CFE7-9C92-435D-9CB6-78AFC80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6CDA8-1544-4E3B-9FA5-93E840EF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B0296-DF9E-40D5-99C1-2FDDE3F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ED926-1379-4439-ACD1-1083147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A8974-FACF-4FB5-ABC6-7669162E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07F4F-D53B-4E9B-9329-F5909D6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5BD37-2DB9-4038-8563-ED27AFE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587E-1AB4-4198-A395-D3BFECD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B16D9-BFAB-4A16-B326-975AC116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03F604-78DB-48D4-BE89-328F388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0C749-570A-490E-9518-F584437C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DF712-F00C-4E18-82BB-AE576E9F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55A27F-CC70-4CFC-B63E-95B8A64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252653-DE56-4856-8424-81BCB430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3AA30-F9E5-4555-A2E0-7AE6B9C8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75A97-5677-478E-8168-1590AE8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CD7E1-E55A-4122-BE8B-1D266E6B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43860-2A9C-4517-B97F-51B5983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395D-F8FA-46C4-9912-23DFDB29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901-05D6-4D72-BDD9-012C490F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0725A-12F7-44A3-BEAD-A5E0F771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1261C-B5AC-4495-9BCC-53D60403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421E1-373C-4E50-995E-0F866A6A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B01E7-5B2F-4A62-AEAE-4F858891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6B7A2-5F0E-4C11-B59D-BD9CB29E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DCA5D-4838-47C9-BF9A-EF00B1B6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70588-97ED-4D12-802E-9CF76B0D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ABA02-C5A1-4DD5-ACA7-173124A1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5A9103-FE74-4297-8162-680645BE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7A115-EB15-441F-A2E8-FF210A1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5110-D59E-4AC7-97DA-9DC5FAB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2EC8A-1A27-4E7D-945A-FD3E103A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0A447-0F14-4157-B05A-4E97072F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8968C-2CC5-4546-8FD2-EE7FED7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DF84D-AA34-43D7-AFE2-802839E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9A01B-7C10-4D3A-B41E-BF4B2533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213A5-DBBA-497A-81F1-82E01072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D939C-05E7-4319-B56A-E367570C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0C93AC-39A0-41BE-95DA-0107D675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47D901-A561-406F-A9E9-A4E4679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1BADE-4EB7-41ED-AD2B-09B680CB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14EE-722C-44F2-BCBE-C3463C4D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2C9DE-7527-47D1-BD26-A9750ADD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0DD02-F4B0-47FA-8FDF-B5ABA92C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DEC09-E7B6-4F54-90C7-EEBC4472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A25F38-9052-480E-BB85-599F118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826FA-E788-4E7A-ACC3-59549CE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BA9F3-04D2-411C-A53B-DDEA7EB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0F357F-EA0E-42BA-8E96-6526964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6759C-4DC3-4B81-80BC-24FB2E69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C5A56-02B1-45C5-BBEC-85631ADA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04E8EE-0AD3-48BD-8F7A-1D616E2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05A-1EDD-48AF-88FC-A2B54E09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1A5660-BA2C-4130-88B5-A658B829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0D876-251B-4794-8308-1D0FBF7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90ECF-6B38-4FB9-BF19-78D98EF5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51A833-F76F-41C1-A2F3-39E426A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8B9DA-3564-410D-8A4E-780E6376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F38A2-CE11-4DD9-9246-4242520F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C2874-DAB8-4FCD-8D9C-94627AA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D52C2-2A6B-4DDC-8B8E-15B4D61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317524-4914-4A18-A747-7052B51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3BA81-F970-4EC5-9C0B-12AD4EA8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A271-E1C0-4E05-95EF-DA26AB16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F6189-41A9-48C4-83B9-FC86F832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60550-DF9F-4AEC-819D-B1C208D5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EF213-086D-4878-A547-BA1C15C1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1BB38-4A9D-4441-A367-9A3DFD30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768F2-1F69-4939-9721-5C6EF169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B7D05-CBFE-44C8-8BFC-C144106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F0438-3B6E-4829-B349-26B8ABB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722400-9E7A-440C-B533-0F342AAE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FDB8C1-7A41-45E6-8D71-0FE9D69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8685FF-2241-48EC-BCE4-D51281C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FCAC-6D4D-4AEC-B273-124DABC4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2B23D-C6D7-4420-A9C0-B7B0F9B0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0D180A-E288-4DB9-9206-BC688F26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21790-6E12-43C0-B155-FEC2E9B5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5A0C0-305D-42F2-B143-89F6FD50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261018-31CE-4084-9213-805AE20E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CC3AEE-DCA8-4EF9-908E-844327C6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E8AF5-88D6-4407-908C-AF8C9AEF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F483F9-043B-4848-B81D-DB63F2E3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6525B-9127-4799-94E1-3CBCB160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824D1-A7FD-4388-82FE-FBA0E47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1C66-29E8-4BDA-B615-7278E86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9F760-C4FC-4623-B75A-2BE7764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5F152-C5DA-4FFB-A034-6A880742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16E17-22B6-4E81-AF97-A820B18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66ADD9-EF55-48E6-9BC3-D96C2FD5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AFDBC-1D49-4C59-B27F-774FCD42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235E8B-61A8-4FB4-99F6-11FEEFF1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A787E1-FF5B-40F8-8390-6F6EEB75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17498C-A66E-4D1E-8B99-33DB736C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FA1B4-72C0-460F-B52F-CEE23D9F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DF258E-9DC2-4812-BE46-52DD179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F532-97AB-466E-87EA-A0A9E83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6E2D08-F5FB-4A23-9080-79AAE8B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6C58B-FE67-4FE9-8736-916311D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A9E05-2019-4387-938A-C99B61C0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81AF21-4FBF-4AFF-A374-E69E23C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31B18-8DC6-41F1-92D1-12F4166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36F9D-AF66-442E-BD6C-8CB515A4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B2BED-F615-4D22-ADD9-4ABAC211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E3554B-16A7-4D51-B646-170F8F45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E59E81-8AF9-4953-AC2D-4176BA3F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5B56D6-AF83-4073-9C95-185DA653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863D-970C-490E-B0E1-E8440FF0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F0303E-2AE2-4B6B-B443-ED4F5E0C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AE5A71-65B5-49DA-980E-F4F879B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5C9793-0372-4C65-B9D5-A8ACED4F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F54B1-7273-4FCA-96D2-7871DE0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505366-F03C-4571-B6CA-D9C6458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659220-FF2A-4534-A8D8-C364DCA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7DFCC-F446-467F-ADDE-BA068DC6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288BE6-A522-43F0-9A0C-B3CA8869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FC64A-BD83-41C2-AB85-A0BA5B78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B37994-0A42-41C9-9A2C-9E30F08F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AA81-FD14-47F1-BD12-2581A663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5779E-B97C-4F64-B057-C9F7A72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2AEBAF-AA93-4609-8F7B-6A36FDB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04EE2-0CDE-4318-972C-01154535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65B860-CD98-4D00-A697-D9003638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31FF4-9D73-40B0-B285-FE9AF435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C50F59-019D-49D5-81EA-07BEAD19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0995BA-1478-4DAF-9A31-50D74AB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1BC97-B258-4232-AA23-9FDF028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60E8C2-0E47-47CC-AE77-52BB3C8A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F26553-F3AE-454C-85E0-5A3A0AE3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1AAD-AB30-498F-9D80-6F537853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142B3-04F7-443A-8448-6A0199A1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525824-4B87-4CA9-8289-A71EDBE3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0809F9-2B7D-4028-90AB-E1901086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77141-D518-4287-81BE-BBAC59FA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5E5C36-D5B9-4FF5-B037-F41FAD84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603A44-2E2F-4DD6-8664-36E5DEDC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FDC76-CFA5-4F10-ADA3-24C12B6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DF16D8-7D73-4B0A-97F3-08F8D356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13D971-4F78-4367-99E6-F2D5226F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F76E55-1158-43EE-918D-613225A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B263C-F43B-4448-BEF5-D88A1F7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5CD0-58C9-4255-9A0F-2836CA9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7ABF34-C5FA-4FF8-8050-D2CFD2A8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13C1CB-2217-4B52-953B-E6B53054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70CBD7-2D89-437B-AE0B-EE28C792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63ADF7-DD4C-476B-974E-ACC31472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830F1D-7379-4FE2-B6CC-5E93513E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98AFF9-645E-478F-A3A2-6A525F83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04964-D3EF-401D-A9F4-31147923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8948A6-FF92-4E3E-AAD4-BE70217C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9BBB38-1BB6-427D-8295-D4A551EF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5641B2-99A8-44F0-9918-55E004B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808A-E59C-4094-B81B-B39E0690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545A6F-EEE9-4761-9D83-ABAAFD4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6AB0C9-9346-4676-B1C7-3060EB3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1D0627-28B0-4BB8-9416-E192593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8BFA47-F588-4997-BAB1-BE6EA9F4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266BFB-7C2A-4BD6-8643-195F1821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43FA-C17B-4820-857F-0C39204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BD72-45B6-4D52-B449-4C764EFD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446D-B329-4B55-B7F5-83D10DEA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EA6B-DF9E-42D3-9293-FE63A354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ECA51-A5C4-49C1-B529-76CD3958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E753-8F30-4575-9545-99A7365D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9CA0-3125-4EC8-9605-C11D98E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F233-386C-4163-B954-31A1BB7D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46B67-B1E6-4A8C-A885-7F52E72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0432-E23C-479C-86EC-05C7EF92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822AD-17E8-46BE-BB14-81D3926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12F1-66E7-416F-BB79-1437B1C6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6771-7AF5-4B8A-B184-8F20580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C5E7-C8E0-4171-840F-BA0CA26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C5B3-FC15-4D9E-A012-8663D48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67DF-326D-4DBB-99CE-E9E1204B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80DC-FCED-4FB1-8591-E392614D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7B4C-4062-4C11-B153-007EAEC9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F3B7-C424-4480-8ED1-AFACB4A7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25A4-E592-462B-976B-282F3082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2C59-645B-4FAB-B6B2-B1650C5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BA0D-E0B0-4891-9155-2098A30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8502-E15D-4367-A420-D2F369F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3D643-E7DC-4AE1-9D3E-DD0C5BDD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C8524-6056-4889-A766-6F4F83D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0BB3F-85B9-472E-A3ED-8A56F2A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6F1C-35D8-4A84-AD8A-E3A01C56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462D-E4A8-4880-8364-A83B025A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BC437-411A-4714-812E-664D798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15F5C-7963-43E4-96CE-88468CA1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92D14-A60D-4221-AA53-3CEA6DAA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4B01-5469-4587-8ECB-60B02883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EF4CE-63BA-41B8-BAEC-E78883C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BC70-5D43-4EF6-A2E6-35870BF4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B9731-9FB2-419A-A0F2-71BB766C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3B97-A7FD-496B-B535-926E2127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FC8B-0C2A-49D8-8898-3E8DC210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3B18-D4C0-4F96-B3F3-A49665EA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4B37-2671-4A67-B149-E61C3F2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4C7F-081C-47A1-9243-E3F71EDA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F63BE-C7C8-45F0-A7B4-7DD7800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89066-8337-4D5E-85E8-76A3E8A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79BD3-F337-4088-8F10-BCE116C9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66E8-D753-40D3-A0F7-03DBF0B8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BAEEE-A74A-4211-B208-DB62E94F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9E89-E0D8-4336-9457-7DC1C0FD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B1DF7-CFF6-405B-945C-B8B8310F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6DA4-29A7-4827-B940-7DEA42A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6D422-2D05-4FC0-9189-BE4D9770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EE69F-B1E1-4D0C-898A-C5E4118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4A867-1711-4995-8A8C-4BE300F8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0" y="17280"/>
            <a:ext cx="9144000" cy="48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8CC8-1F24-43E5-A82A-4DEEEEB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79C8-9CFC-4553-9E7D-680BB1F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5F2E-540D-4795-B9CC-935AC1E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2E3D-DD0D-4DF7-8652-AAB402F8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6A5A-D469-45C1-A8FC-CF548F20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2DAC-EE0E-4B07-A46D-2F344ACD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75D4F-6012-4139-B685-78262E82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A8702-BEB2-4F8E-80ED-32B2C6AD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E1AE8-5AE1-41B0-BEAC-53B431E4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959DA-97BD-426D-9297-DF23BFA6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DDA8-246A-4788-B5ED-9150256E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5C3-73F6-42DD-A033-1B9F85CD3A6F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CF5-CDC9-4ECF-9BE1-67E18D2F0765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3A07-04C8-4BEC-846B-FAEFF6806498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49D5-CF78-49BA-971E-48DC4C7F728F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234C-364D-4D9D-BFED-F44110D0FFF1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3ECC-1705-47A0-97A6-08C1F588179A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F4D-2CAB-4245-87AE-0F025E8638DF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AF8-5243-4795-8A30-1C5FA7FA939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D690-F547-4633-AE6B-95B3FA164A1B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E42F-27B7-463E-AE72-D5945413A7E3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CF2-BB6B-440E-A0E9-3F1232642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67C-49A3-40D4-9A98-75237883D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E04F-BC5D-44F3-9667-C18FEDC9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653-696C-45C3-A471-051918549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DEDA-EC54-467F-B91C-18AF6F5E8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DB8A-1AE4-46A4-A62F-9389C6641D58}" type="datetime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2A1F-2C1D-4779-BDCF-41BB604C13AE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7BA9-D71E-4CE5-8F39-4166E032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9ED4-3EC5-455A-AF50-20007B9D5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1351-C245-4C4B-94B5-BF361F8A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1F14-AF44-41DD-9957-8385C6E3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7A5D-2AB4-41BA-92C6-1AA9E22C9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611-4031-4E28-BC87-5C4619FB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0108-83B8-4904-B75D-CB56C7A3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ED44-0063-402E-91E9-AAC7A6BE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893-D44C-49D5-9E8D-EF55160F2C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44F2-F074-48E4-9EC0-5EF443C59FC9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518-8082-4631-BB1E-66435BB6AF79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06AB-856C-40D6-9B3A-2F474C158F4D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4319-4503-4B90-8254-8D202BE504B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F50-0B36-4E43-BD9E-8407F4799CFF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2D5D-F7A8-4C3D-8534-BDA4C183C709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D8E-1A49-479E-A564-F146F8C3792E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3257-B369-4930-9A93-C4608716547B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99A6-A117-433E-AC71-F8A532BD83B2}" type="datetime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Arial"/>
                <a:ea typeface="Malgun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C11C-E2FE-4EE6-8697-AB5C9B0CAC4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85480" y="155700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c000"/>
                </a:solidFill>
                <a:latin typeface="Tahoma"/>
                <a:cs typeface="Tahoma"/>
              </a:rPr>
              <a:t>การรู้จำแบบ</a:t>
            </a:r>
            <a:br>
              <a:rPr sz="3000"/>
            </a:br>
            <a:r>
              <a:rPr b="0" lang="en-US" sz="3200" spc="-1" strike="noStrike">
                <a:solidFill>
                  <a:srgbClr val="ff8600"/>
                </a:solidFill>
                <a:latin typeface="Arial"/>
              </a:rPr>
              <a:t>Pattern Recognition</a:t>
            </a:r>
            <a:br>
              <a:rPr sz="3000"/>
            </a:br>
            <a:endParaRPr b="0" lang="en-US" sz="32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2555640" y="4149720"/>
            <a:ext cx="629892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ผู้สอ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ดร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ไพชยนต์ คงไช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179280" y="23760"/>
            <a:ext cx="8569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c000"/>
                </a:solidFill>
                <a:latin typeface="Tahoma"/>
                <a:ea typeface="Tahoma"/>
              </a:rPr>
              <a:t>Support Vector Machine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9" name="Picture 2" descr="ผลการค้นหารูปภาพสำหรับ blackbox"/>
          <p:cNvPicPr/>
          <p:nvPr/>
        </p:nvPicPr>
        <p:blipFill>
          <a:blip r:embed="rId1"/>
          <a:stretch/>
        </p:blipFill>
        <p:spPr>
          <a:xfrm>
            <a:off x="1476360" y="2421000"/>
            <a:ext cx="52624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70CA-0E83-4D6F-B4F7-2B7A29BDCF27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8"/>
          <p:cNvSpPr/>
          <p:nvPr/>
        </p:nvSpPr>
        <p:spPr>
          <a:xfrm>
            <a:off x="457200" y="1773360"/>
            <a:ext cx="8435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  <a:cs typeface="Angsana New"/>
              </a:rPr>
              <a:t>ซัพพอร์ตเวกเตอร์แมชชีน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(Support Vector Machine) (Cortes and Vapnik, 1995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อัลกอริทึมที่ใช้ในการจำแนกประเภทข้อมูลในแต่ละคลาสที่ได้รับความนิยมมาก เนื่องจากความสามารถในการจำแนกประเภทข้อมูลในแต่ละคลาสมีความ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แม่นยำสูง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โดยหลักการสำคัญของอัลกอริทึมซัพพอร์ตเวกเตอร์แมชชีนคือการ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สร้างเส้นแบ่ง </a:t>
            </a:r>
            <a:r>
              <a:rPr b="0" lang="en-US" sz="3200" spc="-1" strike="noStrike">
                <a:solidFill>
                  <a:srgbClr val="ff0000"/>
                </a:solidFill>
                <a:latin typeface="Angsana New"/>
                <a:ea typeface="Angsana New"/>
              </a:rPr>
              <a:t>(Hyper plane) </a:t>
            </a:r>
            <a:r>
              <a:rPr b="0" lang="th-TH" sz="3200" spc="-1" strike="noStrike">
                <a:solidFill>
                  <a:srgbClr val="ff0000"/>
                </a:solidFill>
                <a:latin typeface="Angsana New"/>
                <a:cs typeface="Angsana New"/>
              </a:rPr>
              <a:t>เพื่อแบ่งแยกประเภทข้อมูลออกจากกั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B2C-4502-447D-9376-A5E8F736B87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7" name="Group 38"/>
          <p:cNvGrpSpPr/>
          <p:nvPr/>
        </p:nvGrpSpPr>
        <p:grpSpPr>
          <a:xfrm>
            <a:off x="1187280" y="1773360"/>
            <a:ext cx="6913800" cy="3456000"/>
            <a:chOff x="1187280" y="1773360"/>
            <a:chExt cx="6913800" cy="3456000"/>
          </a:xfrm>
        </p:grpSpPr>
        <p:grpSp>
          <p:nvGrpSpPr>
            <p:cNvPr id="1218" name="Canvas 316"/>
            <p:cNvGrpSpPr/>
            <p:nvPr/>
          </p:nvGrpSpPr>
          <p:grpSpPr>
            <a:xfrm>
              <a:off x="1187280" y="1773360"/>
              <a:ext cx="6913800" cy="3456000"/>
              <a:chOff x="1187280" y="1773360"/>
              <a:chExt cx="6913800" cy="3456000"/>
            </a:xfrm>
          </p:grpSpPr>
          <p:sp>
            <p:nvSpPr>
              <p:cNvPr id="1219" name="AutoShape 29"/>
              <p:cNvSpPr/>
              <p:nvPr/>
            </p:nvSpPr>
            <p:spPr>
              <a:xfrm flipV="1">
                <a:off x="1187280" y="1773000"/>
                <a:ext cx="6913800" cy="345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28"/>
              <p:cNvSpPr/>
              <p:nvPr/>
            </p:nvSpPr>
            <p:spPr>
              <a:xfrm flipV="1">
                <a:off x="2713680" y="1853640"/>
                <a:ext cx="3443400" cy="328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สามเหลี่ยมหน้าจั่ว 318"/>
              <p:cNvSpPr/>
              <p:nvPr/>
            </p:nvSpPr>
            <p:spPr>
              <a:xfrm flipV="1">
                <a:off x="2712600" y="2889000"/>
                <a:ext cx="237240" cy="189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สามเหลี่ยมหน้าจั่ว 324"/>
              <p:cNvSpPr/>
              <p:nvPr/>
            </p:nvSpPr>
            <p:spPr>
              <a:xfrm flipV="1">
                <a:off x="3560400" y="219888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สามเหลี่ยมหน้าจั่ว 325"/>
              <p:cNvSpPr/>
              <p:nvPr/>
            </p:nvSpPr>
            <p:spPr>
              <a:xfrm flipV="1">
                <a:off x="2713680" y="213696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สามเหลี่ยมหน้าจั่ว 326"/>
              <p:cNvSpPr/>
              <p:nvPr/>
            </p:nvSpPr>
            <p:spPr>
              <a:xfrm flipV="1">
                <a:off x="1797840" y="251460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สามเหลี่ยมหน้าจั่ว 327"/>
              <p:cNvSpPr/>
              <p:nvPr/>
            </p:nvSpPr>
            <p:spPr>
              <a:xfrm flipV="1">
                <a:off x="2034360" y="350100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สามเหลี่ยมหน้าจั่ว 328"/>
              <p:cNvSpPr/>
              <p:nvPr/>
            </p:nvSpPr>
            <p:spPr>
              <a:xfrm flipV="1">
                <a:off x="1918080" y="1948320"/>
                <a:ext cx="236160" cy="1886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สี่เหลี่ยมผืนผ้า 161"/>
              <p:cNvSpPr/>
              <p:nvPr/>
            </p:nvSpPr>
            <p:spPr>
              <a:xfrm flipV="1">
                <a:off x="5090040" y="470520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สี่เหลี่ยมผืนผ้า 329"/>
              <p:cNvSpPr/>
              <p:nvPr/>
            </p:nvSpPr>
            <p:spPr>
              <a:xfrm flipV="1">
                <a:off x="6157440" y="3772080"/>
                <a:ext cx="237600" cy="19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สี่เหลี่ยมผืนผ้า 330"/>
              <p:cNvSpPr/>
              <p:nvPr/>
            </p:nvSpPr>
            <p:spPr>
              <a:xfrm flipV="1">
                <a:off x="6252840" y="476136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สี่เหลี่ยมผืนผ้า 331"/>
              <p:cNvSpPr/>
              <p:nvPr/>
            </p:nvSpPr>
            <p:spPr>
              <a:xfrm flipV="1">
                <a:off x="7346520" y="4087440"/>
                <a:ext cx="237600" cy="19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สี่เหลี่ยมผืนผ้า 332"/>
              <p:cNvSpPr/>
              <p:nvPr/>
            </p:nvSpPr>
            <p:spPr>
              <a:xfrm flipV="1">
                <a:off x="7346520" y="3300480"/>
                <a:ext cx="237600" cy="199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2" name="Straight Connector 35"/>
            <p:cNvSpPr/>
            <p:nvPr/>
          </p:nvSpPr>
          <p:spPr>
            <a:xfrm flipV="1">
              <a:off x="2644560" y="1868040"/>
              <a:ext cx="3513240" cy="3310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1863-712C-4AB2-B23B-675B4B1437E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6" name="Canvas 316"/>
          <p:cNvGrpSpPr/>
          <p:nvPr/>
        </p:nvGrpSpPr>
        <p:grpSpPr>
          <a:xfrm>
            <a:off x="1187280" y="1773360"/>
            <a:ext cx="6913800" cy="3456000"/>
            <a:chOff x="1187280" y="1773360"/>
            <a:chExt cx="6913800" cy="3456000"/>
          </a:xfrm>
        </p:grpSpPr>
        <p:sp>
          <p:nvSpPr>
            <p:cNvPr id="1237" name="AutoShape 29"/>
            <p:cNvSpPr/>
            <p:nvPr/>
          </p:nvSpPr>
          <p:spPr>
            <a:xfrm flipV="1">
              <a:off x="1187280" y="1773000"/>
              <a:ext cx="6913800" cy="34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28"/>
            <p:cNvSpPr/>
            <p:nvPr/>
          </p:nvSpPr>
          <p:spPr>
            <a:xfrm flipV="1">
              <a:off x="2713680" y="1853640"/>
              <a:ext cx="3443400" cy="3286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สามเหลี่ยมหน้าจั่ว 318"/>
            <p:cNvSpPr/>
            <p:nvPr/>
          </p:nvSpPr>
          <p:spPr>
            <a:xfrm flipV="1">
              <a:off x="2712600" y="2889000"/>
              <a:ext cx="237240" cy="189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สามเหลี่ยมหน้าจั่ว 324"/>
            <p:cNvSpPr/>
            <p:nvPr/>
          </p:nvSpPr>
          <p:spPr>
            <a:xfrm flipV="1">
              <a:off x="3560400" y="219888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สามเหลี่ยมหน้าจั่ว 325"/>
            <p:cNvSpPr/>
            <p:nvPr/>
          </p:nvSpPr>
          <p:spPr>
            <a:xfrm flipV="1">
              <a:off x="2713680" y="213696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สามเหลี่ยมหน้าจั่ว 326"/>
            <p:cNvSpPr/>
            <p:nvPr/>
          </p:nvSpPr>
          <p:spPr>
            <a:xfrm flipV="1">
              <a:off x="1797840" y="251460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สามเหลี่ยมหน้าจั่ว 327"/>
            <p:cNvSpPr/>
            <p:nvPr/>
          </p:nvSpPr>
          <p:spPr>
            <a:xfrm flipV="1">
              <a:off x="2034360" y="350100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สามเหลี่ยมหน้าจั่ว 328"/>
            <p:cNvSpPr/>
            <p:nvPr/>
          </p:nvSpPr>
          <p:spPr>
            <a:xfrm flipV="1">
              <a:off x="1918080" y="1948320"/>
              <a:ext cx="236160" cy="188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สี่เหลี่ยมผืนผ้า 161"/>
            <p:cNvSpPr/>
            <p:nvPr/>
          </p:nvSpPr>
          <p:spPr>
            <a:xfrm flipV="1">
              <a:off x="5090040" y="470520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สี่เหลี่ยมผืนผ้า 329"/>
            <p:cNvSpPr/>
            <p:nvPr/>
          </p:nvSpPr>
          <p:spPr>
            <a:xfrm flipV="1">
              <a:off x="6157440" y="3772080"/>
              <a:ext cx="237600" cy="19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สี่เหลี่ยมผืนผ้า 330"/>
            <p:cNvSpPr/>
            <p:nvPr/>
          </p:nvSpPr>
          <p:spPr>
            <a:xfrm flipV="1">
              <a:off x="6252840" y="476136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สี่เหลี่ยมผืนผ้า 331"/>
            <p:cNvSpPr/>
            <p:nvPr/>
          </p:nvSpPr>
          <p:spPr>
            <a:xfrm flipV="1">
              <a:off x="7346520" y="4087440"/>
              <a:ext cx="237600" cy="19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สี่เหลี่ยมผืนผ้า 332"/>
            <p:cNvSpPr/>
            <p:nvPr/>
          </p:nvSpPr>
          <p:spPr>
            <a:xfrm flipV="1">
              <a:off x="7346520" y="3300480"/>
              <a:ext cx="237600" cy="199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0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A3F-B14F-4C94-BA31-E99E4105324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Canvas 187"/>
          <p:cNvGrpSpPr/>
          <p:nvPr/>
        </p:nvGrpSpPr>
        <p:grpSpPr>
          <a:xfrm>
            <a:off x="900000" y="1628640"/>
            <a:ext cx="7488360" cy="3600720"/>
            <a:chOff x="900000" y="1628640"/>
            <a:chExt cx="7488360" cy="3600720"/>
          </a:xfrm>
        </p:grpSpPr>
        <p:sp>
          <p:nvSpPr>
            <p:cNvPr id="1256" name="AutoShape 21"/>
            <p:cNvSpPr/>
            <p:nvPr/>
          </p:nvSpPr>
          <p:spPr>
            <a:xfrm>
              <a:off x="900000" y="1628640"/>
              <a:ext cx="7488360" cy="360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Line 20"/>
            <p:cNvSpPr/>
            <p:nvPr/>
          </p:nvSpPr>
          <p:spPr>
            <a:xfrm>
              <a:off x="983880" y="2265480"/>
              <a:ext cx="6465600" cy="289116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สามเหลี่ยมหน้าจั่ว 176"/>
            <p:cNvSpPr/>
            <p:nvPr/>
          </p:nvSpPr>
          <p:spPr>
            <a:xfrm>
              <a:off x="3059280" y="3915720"/>
              <a:ext cx="335880" cy="20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สามเหลี่ยมหน้าจั่ว 177"/>
            <p:cNvSpPr/>
            <p:nvPr/>
          </p:nvSpPr>
          <p:spPr>
            <a:xfrm>
              <a:off x="4259880" y="465732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สามเหลี่ยมหน้าจั่ว 178"/>
            <p:cNvSpPr/>
            <p:nvPr/>
          </p:nvSpPr>
          <p:spPr>
            <a:xfrm>
              <a:off x="3061080" y="4723560"/>
              <a:ext cx="33444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สามเหลี่ยมหน้าจั่ว 179"/>
            <p:cNvSpPr/>
            <p:nvPr/>
          </p:nvSpPr>
          <p:spPr>
            <a:xfrm>
              <a:off x="1764360" y="431820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สามเหลี่ยมหน้าจั่ว 180"/>
            <p:cNvSpPr/>
            <p:nvPr/>
          </p:nvSpPr>
          <p:spPr>
            <a:xfrm>
              <a:off x="2099160" y="3259440"/>
              <a:ext cx="334440" cy="202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สามเหลี่ยมหน้าจั่ว 181"/>
            <p:cNvSpPr/>
            <p:nvPr/>
          </p:nvSpPr>
          <p:spPr>
            <a:xfrm>
              <a:off x="1934640" y="4926240"/>
              <a:ext cx="334800" cy="20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สี่เหลี่ยมผืนผ้า 182"/>
            <p:cNvSpPr/>
            <p:nvPr/>
          </p:nvSpPr>
          <p:spPr>
            <a:xfrm>
              <a:off x="4152960" y="195120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สี่เหลี่ยมผืนผ้า 183"/>
            <p:cNvSpPr/>
            <p:nvPr/>
          </p:nvSpPr>
          <p:spPr>
            <a:xfrm>
              <a:off x="5099400" y="2774160"/>
              <a:ext cx="33660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สี่เหลี่ยมผืนผ้า 184"/>
            <p:cNvSpPr/>
            <p:nvPr/>
          </p:nvSpPr>
          <p:spPr>
            <a:xfrm>
              <a:off x="5832000" y="184968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สี่เหลี่ยมผืนผ้า 185"/>
            <p:cNvSpPr/>
            <p:nvPr/>
          </p:nvSpPr>
          <p:spPr>
            <a:xfrm>
              <a:off x="7090560" y="226548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สี่เหลี่ยมผืนผ้า 186"/>
            <p:cNvSpPr/>
            <p:nvPr/>
          </p:nvSpPr>
          <p:spPr>
            <a:xfrm>
              <a:off x="6613920" y="3657240"/>
              <a:ext cx="3362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Line 8"/>
            <p:cNvSpPr/>
            <p:nvPr/>
          </p:nvSpPr>
          <p:spPr>
            <a:xfrm>
              <a:off x="3732480" y="1701000"/>
              <a:ext cx="1703160" cy="3528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7"/>
            <p:cNvSpPr/>
            <p:nvPr/>
          </p:nvSpPr>
          <p:spPr>
            <a:xfrm>
              <a:off x="1934640" y="1628640"/>
              <a:ext cx="4378320" cy="350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Text Box 350"/>
            <p:cNvSpPr/>
            <p:nvPr/>
          </p:nvSpPr>
          <p:spPr>
            <a:xfrm>
              <a:off x="983880" y="2139840"/>
              <a:ext cx="67032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ngsana New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Text Box 350"/>
            <p:cNvSpPr/>
            <p:nvPr/>
          </p:nvSpPr>
          <p:spPr>
            <a:xfrm>
              <a:off x="2350800" y="1743840"/>
              <a:ext cx="66924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Text Box 350"/>
            <p:cNvSpPr/>
            <p:nvPr/>
          </p:nvSpPr>
          <p:spPr>
            <a:xfrm>
              <a:off x="3590280" y="1628640"/>
              <a:ext cx="66924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4" name="Oval 38"/>
          <p:cNvSpPr/>
          <p:nvPr/>
        </p:nvSpPr>
        <p:spPr>
          <a:xfrm>
            <a:off x="1332000" y="1222200"/>
            <a:ext cx="1511280" cy="5223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41"/>
          <p:cNvSpPr/>
          <p:nvPr/>
        </p:nvSpPr>
        <p:spPr>
          <a:xfrm>
            <a:off x="3132000" y="1108080"/>
            <a:ext cx="1511280" cy="5205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42"/>
          <p:cNvSpPr/>
          <p:nvPr/>
        </p:nvSpPr>
        <p:spPr>
          <a:xfrm>
            <a:off x="268200" y="2496960"/>
            <a:ext cx="1511280" cy="5209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657D-8617-44D1-B996-9ED340875AEC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Rectangle 33"/>
          <p:cNvSpPr/>
          <p:nvPr/>
        </p:nvSpPr>
        <p:spPr>
          <a:xfrm>
            <a:off x="1619280" y="548496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Calibri"/>
              </a:rPr>
              <a:t>เส้นแบ่ง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(Hyperplane)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เพื่อแบ่งแยกข้อมูลออกเป็น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Calibri"/>
              </a:rPr>
              <a:t>กลุ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41"/>
          <p:cNvSpPr/>
          <p:nvPr/>
        </p:nvSpPr>
        <p:spPr>
          <a:xfrm>
            <a:off x="2871720" y="1407960"/>
            <a:ext cx="1513080" cy="5223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algun Gothic"/>
                <a:cs typeface="Cordia New"/>
              </a:rPr>
              <a:t>โมเดล </a:t>
            </a:r>
            <a:r>
              <a:rPr b="0" lang="th-TH" sz="2800" spc="-1" strike="noStrike">
                <a:solidFill>
                  <a:srgbClr val="ffffff"/>
                </a:solidFill>
                <a:latin typeface="Malgun Gothic"/>
                <a:ea typeface="Cordia Ne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2" name="Canvas 347"/>
          <p:cNvGrpSpPr/>
          <p:nvPr/>
        </p:nvGrpSpPr>
        <p:grpSpPr>
          <a:xfrm>
            <a:off x="826920" y="1928880"/>
            <a:ext cx="7274160" cy="2997000"/>
            <a:chOff x="826920" y="1928880"/>
            <a:chExt cx="7274160" cy="2997000"/>
          </a:xfrm>
        </p:grpSpPr>
        <p:sp>
          <p:nvSpPr>
            <p:cNvPr id="1283" name="AutoShape 16"/>
            <p:cNvSpPr/>
            <p:nvPr/>
          </p:nvSpPr>
          <p:spPr>
            <a:xfrm>
              <a:off x="826920" y="1928880"/>
              <a:ext cx="7274160" cy="299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สามเหลี่ยมหน้าจั่ว 189"/>
            <p:cNvSpPr/>
            <p:nvPr/>
          </p:nvSpPr>
          <p:spPr>
            <a:xfrm>
              <a:off x="2924640" y="3832560"/>
              <a:ext cx="326160" cy="16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สามเหลี่ยมหน้าจั่ว 335"/>
            <p:cNvSpPr/>
            <p:nvPr/>
          </p:nvSpPr>
          <p:spPr>
            <a:xfrm>
              <a:off x="4090680" y="4449600"/>
              <a:ext cx="325080" cy="168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สามเหลี่ยมหน้าจั่ว 336"/>
            <p:cNvSpPr/>
            <p:nvPr/>
          </p:nvSpPr>
          <p:spPr>
            <a:xfrm>
              <a:off x="2926080" y="4505040"/>
              <a:ext cx="32472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สามเหลี่ยมหน้าจั่ว 337"/>
            <p:cNvSpPr/>
            <p:nvPr/>
          </p:nvSpPr>
          <p:spPr>
            <a:xfrm>
              <a:off x="1666440" y="4167360"/>
              <a:ext cx="32508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สามเหลี่ยมหน้าจั่ว 338"/>
            <p:cNvSpPr/>
            <p:nvPr/>
          </p:nvSpPr>
          <p:spPr>
            <a:xfrm>
              <a:off x="1991880" y="3286440"/>
              <a:ext cx="32472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สามเหลี่ยมหน้าจั่ว 339"/>
            <p:cNvSpPr/>
            <p:nvPr/>
          </p:nvSpPr>
          <p:spPr>
            <a:xfrm>
              <a:off x="1832040" y="4673880"/>
              <a:ext cx="325080" cy="168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สี่เหลี่ยมผืนผ้า 340"/>
            <p:cNvSpPr/>
            <p:nvPr/>
          </p:nvSpPr>
          <p:spPr>
            <a:xfrm>
              <a:off x="3987000" y="219708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สี่เหลี่ยมผืนผ้า 341"/>
            <p:cNvSpPr/>
            <p:nvPr/>
          </p:nvSpPr>
          <p:spPr>
            <a:xfrm>
              <a:off x="4906440" y="288216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สี่เหลี่ยมผืนผ้า 342"/>
            <p:cNvSpPr/>
            <p:nvPr/>
          </p:nvSpPr>
          <p:spPr>
            <a:xfrm>
              <a:off x="5618160" y="21128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สี่เหลี่ยมผืนผ้า 343"/>
            <p:cNvSpPr/>
            <p:nvPr/>
          </p:nvSpPr>
          <p:spPr>
            <a:xfrm>
              <a:off x="6840720" y="245880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สี่เหลี่ยมผืนผ้า 344"/>
            <p:cNvSpPr/>
            <p:nvPr/>
          </p:nvSpPr>
          <p:spPr>
            <a:xfrm>
              <a:off x="6377400" y="361728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4"/>
            <p:cNvSpPr/>
            <p:nvPr/>
          </p:nvSpPr>
          <p:spPr>
            <a:xfrm>
              <a:off x="3578400" y="1989000"/>
              <a:ext cx="1654560" cy="2936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สี่เหลี่ยมผืนผ้า 348"/>
            <p:cNvSpPr/>
            <p:nvPr/>
          </p:nvSpPr>
          <p:spPr>
            <a:xfrm>
              <a:off x="3250800" y="21128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สี่เหลี่ยมผืนผ้า 349"/>
            <p:cNvSpPr/>
            <p:nvPr/>
          </p:nvSpPr>
          <p:spPr>
            <a:xfrm>
              <a:off x="2807640" y="2042640"/>
              <a:ext cx="326880" cy="17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1ADE-10F4-4883-95DB-2C085278374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33"/>
          <p:cNvSpPr/>
          <p:nvPr/>
        </p:nvSpPr>
        <p:spPr>
          <a:xfrm>
            <a:off x="1619280" y="6108840"/>
            <a:ext cx="63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Angsana New"/>
              </a:rPr>
              <a:t>เส้นแบ่งข้อมูลที่มีระยะห่างระหว่างข้อมูลมากที่สุ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2" name="Picture 45" descr=""/>
          <p:cNvPicPr/>
          <p:nvPr/>
        </p:nvPicPr>
        <p:blipFill>
          <a:blip r:embed="rId1"/>
          <a:stretch/>
        </p:blipFill>
        <p:spPr>
          <a:xfrm>
            <a:off x="1109520" y="1217520"/>
            <a:ext cx="65106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1CA-7D55-4223-946E-4CC6A99ADFF2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1"/>
          <p:cNvSpPr/>
          <p:nvPr/>
        </p:nvSpPr>
        <p:spPr>
          <a:xfrm>
            <a:off x="179280" y="126828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alibri"/>
                <a:ea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Calibri"/>
                <a:cs typeface="Angsana New"/>
              </a:rPr>
              <a:t>เส้นแบ่งนั้นจะทำการแบ่งข้อมูลทั้งสองคลาสออกจากกันด้วยระยะห่างระหว่างข้อมูลทั้งสองคลาสมากที่สุด และมีเวกเตอร์ถ่วงน้ำหนัก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w (Weight Vector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ป็นตัวกำหนดทิศทางและความเอียงของไฮเปอร์เพลน ซึ่งเวกเตอร์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w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ะตั้งฉากกับเส้นแบ่ง และข้อมูลจะถูกแปลงให้อยู่ในรูปแบบเวกเตอร์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x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ส่วน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y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จะเป็นตัวกำหนดว่าข้อมูลจุดนั้นจะเป็นคลาส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หรือคลาส 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-1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โดยสามารถเขียนเป็นสมการได้ดังนี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Rectangle 2" descr=""/>
          <p:cNvPicPr/>
          <p:nvPr/>
        </p:nvPicPr>
        <p:blipFill>
          <a:blip r:embed="rId1"/>
          <a:stretch/>
        </p:blipFill>
        <p:spPr>
          <a:xfrm>
            <a:off x="2286000" y="3713040"/>
            <a:ext cx="4572000" cy="1389240"/>
          </a:xfrm>
          <a:prstGeom prst="rect">
            <a:avLst/>
          </a:prstGeom>
          <a:ln w="0">
            <a:noFill/>
          </a:ln>
        </p:spPr>
      </p:pic>
      <p:sp>
        <p:nvSpPr>
          <p:cNvPr id="1308" name="Rectangle 3"/>
          <p:cNvSpPr/>
          <p:nvPr/>
        </p:nvSpPr>
        <p:spPr>
          <a:xfrm>
            <a:off x="684360" y="5105520"/>
            <a:ext cx="71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alibri"/>
                <a:cs typeface="Angsana New"/>
              </a:rPr>
              <a:t>เมื่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Calibri"/>
              </a:rPr>
              <a:t>w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ือเวกเตอร์ถ่วงน้ำหนัก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Weight V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b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  <a:cs typeface="Angsana New"/>
              </a:rPr>
              <a:t>คือค่าไบแอส </a:t>
            </a: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Angsana New"/>
              </a:rPr>
              <a:t>(Bia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8E94-9503-433D-9AEC-BBD57B4C75E0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1"/>
          <p:cNvSpPr/>
          <p:nvPr/>
        </p:nvSpPr>
        <p:spPr>
          <a:xfrm>
            <a:off x="179280" y="1268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Calibri"/>
                <a:ea typeface="Cordia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VM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มีการใช้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kernel function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เพื่อทำการแปลงข้อมูลที่ไม่สามารถใช้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inear model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ไปอยู่มิติ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(Dimension) </a:t>
            </a:r>
            <a:r>
              <a:rPr b="0" lang="th-TH" sz="3200" spc="-1" strike="noStrike">
                <a:solidFill>
                  <a:srgbClr val="ffffff"/>
                </a:solidFill>
                <a:latin typeface="Calibri"/>
                <a:cs typeface="Cordia New"/>
              </a:rPr>
              <a:t>ที่สูง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Table 4" descr=""/>
          <p:cNvPicPr/>
          <p:nvPr/>
        </p:nvPicPr>
        <p:blipFill>
          <a:blip r:embed="rId1"/>
          <a:stretch/>
        </p:blipFill>
        <p:spPr>
          <a:xfrm>
            <a:off x="438120" y="2597040"/>
            <a:ext cx="82551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7DF-8160-4FF3-8C6B-9DD6DC00F7F5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610920" y="111240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 </a:t>
            </a: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หรือ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8" name="Rectangle 10"/>
          <p:cNvSpPr/>
          <p:nvPr/>
        </p:nvSpPr>
        <p:spPr>
          <a:xfrm>
            <a:off x="915840" y="2103480"/>
            <a:ext cx="335304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Rectangle 11"/>
          <p:cNvSpPr/>
          <p:nvPr/>
        </p:nvSpPr>
        <p:spPr>
          <a:xfrm>
            <a:off x="5191200" y="2106720"/>
            <a:ext cx="3352680" cy="213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Box 12"/>
          <p:cNvSpPr/>
          <p:nvPr/>
        </p:nvSpPr>
        <p:spPr>
          <a:xfrm>
            <a:off x="2058840" y="5303880"/>
            <a:ext cx="1752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C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น้อย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Box 13"/>
          <p:cNvSpPr/>
          <p:nvPr/>
        </p:nvSpPr>
        <p:spPr>
          <a:xfrm>
            <a:off x="6249960" y="5303880"/>
            <a:ext cx="175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C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มาก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Oval 14"/>
          <p:cNvSpPr/>
          <p:nvPr/>
        </p:nvSpPr>
        <p:spPr>
          <a:xfrm>
            <a:off x="1471680" y="27892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Oval 15"/>
          <p:cNvSpPr/>
          <p:nvPr/>
        </p:nvSpPr>
        <p:spPr>
          <a:xfrm>
            <a:off x="1400040" y="32130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Oval 16"/>
          <p:cNvSpPr/>
          <p:nvPr/>
        </p:nvSpPr>
        <p:spPr>
          <a:xfrm>
            <a:off x="1000080" y="31845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Oval 17"/>
          <p:cNvSpPr/>
          <p:nvPr/>
        </p:nvSpPr>
        <p:spPr>
          <a:xfrm>
            <a:off x="1738440" y="3630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Oval 18"/>
          <p:cNvSpPr/>
          <p:nvPr/>
        </p:nvSpPr>
        <p:spPr>
          <a:xfrm>
            <a:off x="1239840" y="38084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Oval 19"/>
          <p:cNvSpPr/>
          <p:nvPr/>
        </p:nvSpPr>
        <p:spPr>
          <a:xfrm>
            <a:off x="1447920" y="34956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Oval 20"/>
          <p:cNvSpPr/>
          <p:nvPr/>
        </p:nvSpPr>
        <p:spPr>
          <a:xfrm>
            <a:off x="1008000" y="40323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Oval 21"/>
          <p:cNvSpPr/>
          <p:nvPr/>
        </p:nvSpPr>
        <p:spPr>
          <a:xfrm>
            <a:off x="1920960" y="307656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Oval 22"/>
          <p:cNvSpPr/>
          <p:nvPr/>
        </p:nvSpPr>
        <p:spPr>
          <a:xfrm>
            <a:off x="2255760" y="363060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Oval 23"/>
          <p:cNvSpPr/>
          <p:nvPr/>
        </p:nvSpPr>
        <p:spPr>
          <a:xfrm>
            <a:off x="1822320" y="4008600"/>
            <a:ext cx="16380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Oval 24"/>
          <p:cNvSpPr/>
          <p:nvPr/>
        </p:nvSpPr>
        <p:spPr>
          <a:xfrm>
            <a:off x="1389240" y="4008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Oval 25"/>
          <p:cNvSpPr/>
          <p:nvPr/>
        </p:nvSpPr>
        <p:spPr>
          <a:xfrm>
            <a:off x="1636560" y="38084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Oval 26"/>
          <p:cNvSpPr/>
          <p:nvPr/>
        </p:nvSpPr>
        <p:spPr>
          <a:xfrm>
            <a:off x="1000080" y="36482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Oval 27"/>
          <p:cNvSpPr/>
          <p:nvPr/>
        </p:nvSpPr>
        <p:spPr>
          <a:xfrm>
            <a:off x="1179360" y="345744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Isosceles Triangle 28"/>
          <p:cNvSpPr/>
          <p:nvPr/>
        </p:nvSpPr>
        <p:spPr>
          <a:xfrm>
            <a:off x="2592360" y="2179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Isosceles Triangle 29"/>
          <p:cNvSpPr/>
          <p:nvPr/>
        </p:nvSpPr>
        <p:spPr>
          <a:xfrm>
            <a:off x="2787480" y="2625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Isosceles Triangle 30"/>
          <p:cNvSpPr/>
          <p:nvPr/>
        </p:nvSpPr>
        <p:spPr>
          <a:xfrm>
            <a:off x="3179880" y="27129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Isosceles Triangle 31"/>
          <p:cNvSpPr/>
          <p:nvPr/>
        </p:nvSpPr>
        <p:spPr>
          <a:xfrm>
            <a:off x="3697200" y="22176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Isosceles Triangle 32"/>
          <p:cNvSpPr/>
          <p:nvPr/>
        </p:nvSpPr>
        <p:spPr>
          <a:xfrm>
            <a:off x="3209760" y="2293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Isosceles Triangle 34"/>
          <p:cNvSpPr/>
          <p:nvPr/>
        </p:nvSpPr>
        <p:spPr>
          <a:xfrm>
            <a:off x="3882960" y="2484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Isosceles Triangle 35"/>
          <p:cNvSpPr/>
          <p:nvPr/>
        </p:nvSpPr>
        <p:spPr>
          <a:xfrm>
            <a:off x="3459240" y="25542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Isosceles Triangle 36"/>
          <p:cNvSpPr/>
          <p:nvPr/>
        </p:nvSpPr>
        <p:spPr>
          <a:xfrm>
            <a:off x="3354480" y="2944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Isosceles Triangle 37"/>
          <p:cNvSpPr/>
          <p:nvPr/>
        </p:nvSpPr>
        <p:spPr>
          <a:xfrm>
            <a:off x="3780000" y="2979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Isosceles Triangle 38"/>
          <p:cNvSpPr/>
          <p:nvPr/>
        </p:nvSpPr>
        <p:spPr>
          <a:xfrm>
            <a:off x="3710160" y="320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Isosceles Triangle 39"/>
          <p:cNvSpPr/>
          <p:nvPr/>
        </p:nvSpPr>
        <p:spPr>
          <a:xfrm>
            <a:off x="2960640" y="31845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Isosceles Triangle 40"/>
          <p:cNvSpPr/>
          <p:nvPr/>
        </p:nvSpPr>
        <p:spPr>
          <a:xfrm>
            <a:off x="3062160" y="373212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Isosceles Triangle 41"/>
          <p:cNvSpPr/>
          <p:nvPr/>
        </p:nvSpPr>
        <p:spPr>
          <a:xfrm>
            <a:off x="3400560" y="3316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Isosceles Triangle 42"/>
          <p:cNvSpPr/>
          <p:nvPr/>
        </p:nvSpPr>
        <p:spPr>
          <a:xfrm>
            <a:off x="3718080" y="3648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Isosceles Triangle 43"/>
          <p:cNvSpPr/>
          <p:nvPr/>
        </p:nvSpPr>
        <p:spPr>
          <a:xfrm>
            <a:off x="2481120" y="2511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Isosceles Triangle 44"/>
          <p:cNvSpPr/>
          <p:nvPr/>
        </p:nvSpPr>
        <p:spPr>
          <a:xfrm>
            <a:off x="2692440" y="34686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5745240" y="276552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5673600" y="31892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5272200" y="3160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6012000" y="36068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Oval 50"/>
          <p:cNvSpPr/>
          <p:nvPr/>
        </p:nvSpPr>
        <p:spPr>
          <a:xfrm>
            <a:off x="5513400" y="378612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Oval 51"/>
          <p:cNvSpPr/>
          <p:nvPr/>
        </p:nvSpPr>
        <p:spPr>
          <a:xfrm>
            <a:off x="5721480" y="347184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Oval 52"/>
          <p:cNvSpPr/>
          <p:nvPr/>
        </p:nvSpPr>
        <p:spPr>
          <a:xfrm>
            <a:off x="5281560" y="400860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Oval 53"/>
          <p:cNvSpPr/>
          <p:nvPr/>
        </p:nvSpPr>
        <p:spPr>
          <a:xfrm>
            <a:off x="6194520" y="3052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Oval 54"/>
          <p:cNvSpPr/>
          <p:nvPr/>
        </p:nvSpPr>
        <p:spPr>
          <a:xfrm>
            <a:off x="6529320" y="36068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Oval 55"/>
          <p:cNvSpPr/>
          <p:nvPr/>
        </p:nvSpPr>
        <p:spPr>
          <a:xfrm>
            <a:off x="6094440" y="3984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Oval 56"/>
          <p:cNvSpPr/>
          <p:nvPr/>
        </p:nvSpPr>
        <p:spPr>
          <a:xfrm>
            <a:off x="5662440" y="3984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Oval 57"/>
          <p:cNvSpPr/>
          <p:nvPr/>
        </p:nvSpPr>
        <p:spPr>
          <a:xfrm>
            <a:off x="5910120" y="378612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Oval 58"/>
          <p:cNvSpPr/>
          <p:nvPr/>
        </p:nvSpPr>
        <p:spPr>
          <a:xfrm>
            <a:off x="5272200" y="362412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Oval 59"/>
          <p:cNvSpPr/>
          <p:nvPr/>
        </p:nvSpPr>
        <p:spPr>
          <a:xfrm>
            <a:off x="5452920" y="343368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Isosceles Triangle 60"/>
          <p:cNvSpPr/>
          <p:nvPr/>
        </p:nvSpPr>
        <p:spPr>
          <a:xfrm>
            <a:off x="6865920" y="2155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Isosceles Triangle 61"/>
          <p:cNvSpPr/>
          <p:nvPr/>
        </p:nvSpPr>
        <p:spPr>
          <a:xfrm>
            <a:off x="7061040" y="2602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Isosceles Triangle 62"/>
          <p:cNvSpPr/>
          <p:nvPr/>
        </p:nvSpPr>
        <p:spPr>
          <a:xfrm>
            <a:off x="7453440" y="2689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Isosceles Triangle 63"/>
          <p:cNvSpPr/>
          <p:nvPr/>
        </p:nvSpPr>
        <p:spPr>
          <a:xfrm>
            <a:off x="7970760" y="21938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Isosceles Triangle 64"/>
          <p:cNvSpPr/>
          <p:nvPr/>
        </p:nvSpPr>
        <p:spPr>
          <a:xfrm>
            <a:off x="7483320" y="22701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Isosceles Triangle 65"/>
          <p:cNvSpPr/>
          <p:nvPr/>
        </p:nvSpPr>
        <p:spPr>
          <a:xfrm>
            <a:off x="8155080" y="24606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Isosceles Triangle 66"/>
          <p:cNvSpPr/>
          <p:nvPr/>
        </p:nvSpPr>
        <p:spPr>
          <a:xfrm>
            <a:off x="773280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Isosceles Triangle 67"/>
          <p:cNvSpPr/>
          <p:nvPr/>
        </p:nvSpPr>
        <p:spPr>
          <a:xfrm>
            <a:off x="7626240" y="2921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Isosceles Triangle 68"/>
          <p:cNvSpPr/>
          <p:nvPr/>
        </p:nvSpPr>
        <p:spPr>
          <a:xfrm>
            <a:off x="8053560" y="29559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Isosceles Triangle 69"/>
          <p:cNvSpPr/>
          <p:nvPr/>
        </p:nvSpPr>
        <p:spPr>
          <a:xfrm>
            <a:off x="7981920" y="31845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Isosceles Triangle 70"/>
          <p:cNvSpPr/>
          <p:nvPr/>
        </p:nvSpPr>
        <p:spPr>
          <a:xfrm>
            <a:off x="7232760" y="3160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Isosceles Triangle 71"/>
          <p:cNvSpPr/>
          <p:nvPr/>
        </p:nvSpPr>
        <p:spPr>
          <a:xfrm>
            <a:off x="7335720" y="37101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Isosceles Triangle 72"/>
          <p:cNvSpPr/>
          <p:nvPr/>
        </p:nvSpPr>
        <p:spPr>
          <a:xfrm>
            <a:off x="7674120" y="329400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Isosceles Triangle 73"/>
          <p:cNvSpPr/>
          <p:nvPr/>
        </p:nvSpPr>
        <p:spPr>
          <a:xfrm>
            <a:off x="7991640" y="362412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Isosceles Triangle 74"/>
          <p:cNvSpPr/>
          <p:nvPr/>
        </p:nvSpPr>
        <p:spPr>
          <a:xfrm>
            <a:off x="6754680" y="2489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Isosceles Triangle 75"/>
          <p:cNvSpPr/>
          <p:nvPr/>
        </p:nvSpPr>
        <p:spPr>
          <a:xfrm>
            <a:off x="6966000" y="34466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Straight Connector 76"/>
          <p:cNvSpPr/>
          <p:nvPr/>
        </p:nvSpPr>
        <p:spPr>
          <a:xfrm>
            <a:off x="932040" y="2484360"/>
            <a:ext cx="1442880" cy="17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Straight Connector 77"/>
          <p:cNvSpPr/>
          <p:nvPr/>
        </p:nvSpPr>
        <p:spPr>
          <a:xfrm>
            <a:off x="1957320" y="2100240"/>
            <a:ext cx="1730520" cy="213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Straight Connector 78"/>
          <p:cNvSpPr/>
          <p:nvPr/>
        </p:nvSpPr>
        <p:spPr>
          <a:xfrm>
            <a:off x="1295280" y="2100240"/>
            <a:ext cx="1754280" cy="2136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Straight Connector 79"/>
          <p:cNvSpPr/>
          <p:nvPr/>
        </p:nvSpPr>
        <p:spPr>
          <a:xfrm>
            <a:off x="5757840" y="2100240"/>
            <a:ext cx="1319400" cy="21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Straight Connector 80"/>
          <p:cNvSpPr/>
          <p:nvPr/>
        </p:nvSpPr>
        <p:spPr>
          <a:xfrm>
            <a:off x="5894280" y="2100240"/>
            <a:ext cx="1312920" cy="2149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Straight Connector 81"/>
          <p:cNvSpPr/>
          <p:nvPr/>
        </p:nvSpPr>
        <p:spPr>
          <a:xfrm>
            <a:off x="6021360" y="2103480"/>
            <a:ext cx="1319400" cy="21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chine learn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a prediction function to a feature representation of the image to get the desired outpu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appl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tomato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f(    ) = “cow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2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762120" cy="7491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3" descr=""/>
          <p:cNvPicPr/>
          <p:nvPr/>
        </p:nvPicPr>
        <p:blipFill>
          <a:blip r:embed="rId2"/>
          <a:stretch/>
        </p:blipFill>
        <p:spPr>
          <a:xfrm>
            <a:off x="2895480" y="4572000"/>
            <a:ext cx="774720" cy="7491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3"/>
          <a:stretch/>
        </p:blipFill>
        <p:spPr>
          <a:xfrm>
            <a:off x="2895480" y="5715000"/>
            <a:ext cx="774720" cy="762120"/>
          </a:xfrm>
          <a:prstGeom prst="rect">
            <a:avLst/>
          </a:prstGeom>
          <a:ln w="0">
            <a:noFill/>
          </a:ln>
        </p:spPr>
      </p:pic>
      <p:sp>
        <p:nvSpPr>
          <p:cNvPr id="1120" name="TextBox 6"/>
          <p:cNvSpPr/>
          <p:nvPr/>
        </p:nvSpPr>
        <p:spPr>
          <a:xfrm>
            <a:off x="7318800" y="6581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5BBE-5D24-436F-8ADC-73CF75FFE8DC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1"/>
          <p:cNvSpPr/>
          <p:nvPr/>
        </p:nvSpPr>
        <p:spPr>
          <a:xfrm>
            <a:off x="179280" y="1268280"/>
            <a:ext cx="8785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Calibri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ทำหน้าที่เป็นตัวควบคุมค่าใช้จ่ายในการจำแนกข้อมูลผิดคลาสในชุดข้อมูลฝึกสอน เนื่องจากอัลกอริทึมซัพพอร์ตเวกเตอร์แมชชีนจะทำการหาไฮเปอร์เพลนที่มีความกว้างของขอบระหว่างแต่ละคลาสมากที่สุด โดยจะเกิดการแลกเปลี่ยนระหว่างการหาขอบที่มีระยะห่างน้อยแต่ไม่มีความผิดพลาดในการจำแนกข้อมูลเลย หรืออาจจะมีการจำแนกข้อมูลผิดพลาดเพียงเล็กน้อย กับการหาขอบที่มีระยะห่างของขอบกว้างมากแต่แลกกับการจำแนกข้อมูลผิดพลาดมากขึ้น โดย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่าน้อยจะทำให้ความกว้างของขอบมีขนาดใหญ่ ทำให้โมเดลมีความยืดหยุ่นต่อข้อมูลในอนาคตสูง และ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C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ีค่ามากจะส่งผลให้ความกว้างของขอบมีขนาดเล็ก อาจจะทำให้เกิดปัญห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  <a:ea typeface="Angsana New"/>
              </a:rPr>
              <a:t>Over Fitting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cs typeface="Angsana New"/>
              </a:rPr>
              <a:t>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1DC6-45BD-40BA-8B0A-E6DDDEBEB40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837720" y="106632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Epsilon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6" name="Rectangle 83"/>
          <p:cNvSpPr/>
          <p:nvPr/>
        </p:nvSpPr>
        <p:spPr>
          <a:xfrm>
            <a:off x="2362320" y="2057400"/>
            <a:ext cx="4876560" cy="312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Oval 84"/>
          <p:cNvSpPr/>
          <p:nvPr/>
        </p:nvSpPr>
        <p:spPr>
          <a:xfrm>
            <a:off x="3201840" y="3176640"/>
            <a:ext cx="16380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Oval 85"/>
          <p:cNvSpPr/>
          <p:nvPr/>
        </p:nvSpPr>
        <p:spPr>
          <a:xfrm>
            <a:off x="3714840" y="323532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Oval 86"/>
          <p:cNvSpPr/>
          <p:nvPr/>
        </p:nvSpPr>
        <p:spPr>
          <a:xfrm>
            <a:off x="2870280" y="275436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Oval 87"/>
          <p:cNvSpPr/>
          <p:nvPr/>
        </p:nvSpPr>
        <p:spPr>
          <a:xfrm>
            <a:off x="4181400" y="377352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Oval 88"/>
          <p:cNvSpPr/>
          <p:nvPr/>
        </p:nvSpPr>
        <p:spPr>
          <a:xfrm>
            <a:off x="3119400" y="36687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Oval 89"/>
          <p:cNvSpPr/>
          <p:nvPr/>
        </p:nvSpPr>
        <p:spPr>
          <a:xfrm>
            <a:off x="3152880" y="415440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Oval 90"/>
          <p:cNvSpPr/>
          <p:nvPr/>
        </p:nvSpPr>
        <p:spPr>
          <a:xfrm>
            <a:off x="2567160" y="41274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Oval 91"/>
          <p:cNvSpPr/>
          <p:nvPr/>
        </p:nvSpPr>
        <p:spPr>
          <a:xfrm>
            <a:off x="4508640" y="290664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Oval 92"/>
          <p:cNvSpPr/>
          <p:nvPr/>
        </p:nvSpPr>
        <p:spPr>
          <a:xfrm>
            <a:off x="4290840" y="45957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Oval 93"/>
          <p:cNvSpPr/>
          <p:nvPr/>
        </p:nvSpPr>
        <p:spPr>
          <a:xfrm>
            <a:off x="3765600" y="439092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Oval 94"/>
          <p:cNvSpPr/>
          <p:nvPr/>
        </p:nvSpPr>
        <p:spPr>
          <a:xfrm>
            <a:off x="3495600" y="47656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Oval 95"/>
          <p:cNvSpPr/>
          <p:nvPr/>
        </p:nvSpPr>
        <p:spPr>
          <a:xfrm>
            <a:off x="3673440" y="402732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Oval 96"/>
          <p:cNvSpPr/>
          <p:nvPr/>
        </p:nvSpPr>
        <p:spPr>
          <a:xfrm>
            <a:off x="2670120" y="333216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Oval 97"/>
          <p:cNvSpPr/>
          <p:nvPr/>
        </p:nvSpPr>
        <p:spPr>
          <a:xfrm>
            <a:off x="2825640" y="474804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Isosceles Triangle 98"/>
          <p:cNvSpPr/>
          <p:nvPr/>
        </p:nvSpPr>
        <p:spPr>
          <a:xfrm>
            <a:off x="4876920" y="2133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Isosceles Triangle 99"/>
          <p:cNvSpPr/>
          <p:nvPr/>
        </p:nvSpPr>
        <p:spPr>
          <a:xfrm>
            <a:off x="541656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Isosceles Triangle 100"/>
          <p:cNvSpPr/>
          <p:nvPr/>
        </p:nvSpPr>
        <p:spPr>
          <a:xfrm>
            <a:off x="5481720" y="2906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Isosceles Triangle 101"/>
          <p:cNvSpPr/>
          <p:nvPr/>
        </p:nvSpPr>
        <p:spPr>
          <a:xfrm>
            <a:off x="5981760" y="21718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Isosceles Triangle 102"/>
          <p:cNvSpPr/>
          <p:nvPr/>
        </p:nvSpPr>
        <p:spPr>
          <a:xfrm>
            <a:off x="6556320" y="4606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Isosceles Triangle 103"/>
          <p:cNvSpPr/>
          <p:nvPr/>
        </p:nvSpPr>
        <p:spPr>
          <a:xfrm>
            <a:off x="668808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Isosceles Triangle 104"/>
          <p:cNvSpPr/>
          <p:nvPr/>
        </p:nvSpPr>
        <p:spPr>
          <a:xfrm>
            <a:off x="6424560" y="3745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Isosceles Triangle 105"/>
          <p:cNvSpPr/>
          <p:nvPr/>
        </p:nvSpPr>
        <p:spPr>
          <a:xfrm>
            <a:off x="5891040" y="32558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Isosceles Triangle 106"/>
          <p:cNvSpPr/>
          <p:nvPr/>
        </p:nvSpPr>
        <p:spPr>
          <a:xfrm>
            <a:off x="6659640" y="3214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Isosceles Triangle 107"/>
          <p:cNvSpPr/>
          <p:nvPr/>
        </p:nvSpPr>
        <p:spPr>
          <a:xfrm>
            <a:off x="6116760" y="2906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Isosceles Triangle 108"/>
          <p:cNvSpPr/>
          <p:nvPr/>
        </p:nvSpPr>
        <p:spPr>
          <a:xfrm>
            <a:off x="5243400" y="3138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Isosceles Triangle 109"/>
          <p:cNvSpPr/>
          <p:nvPr/>
        </p:nvSpPr>
        <p:spPr>
          <a:xfrm>
            <a:off x="4886280" y="39862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Isosceles Triangle 110"/>
          <p:cNvSpPr/>
          <p:nvPr/>
        </p:nvSpPr>
        <p:spPr>
          <a:xfrm>
            <a:off x="5910120" y="369576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Isosceles Triangle 111"/>
          <p:cNvSpPr/>
          <p:nvPr/>
        </p:nvSpPr>
        <p:spPr>
          <a:xfrm>
            <a:off x="6784920" y="40622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Isosceles Triangle 112"/>
          <p:cNvSpPr/>
          <p:nvPr/>
        </p:nvSpPr>
        <p:spPr>
          <a:xfrm>
            <a:off x="4765680" y="24670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Isosceles Triangle 113"/>
          <p:cNvSpPr/>
          <p:nvPr/>
        </p:nvSpPr>
        <p:spPr>
          <a:xfrm>
            <a:off x="6424560" y="4276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Straight Connector 114"/>
          <p:cNvSpPr/>
          <p:nvPr/>
        </p:nvSpPr>
        <p:spPr>
          <a:xfrm>
            <a:off x="2908440" y="2054160"/>
            <a:ext cx="253512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Straight Connector 115"/>
          <p:cNvSpPr/>
          <p:nvPr/>
        </p:nvSpPr>
        <p:spPr>
          <a:xfrm>
            <a:off x="4241880" y="2054160"/>
            <a:ext cx="257796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Straight Connector 116"/>
          <p:cNvSpPr/>
          <p:nvPr/>
        </p:nvSpPr>
        <p:spPr>
          <a:xfrm>
            <a:off x="3581280" y="2022480"/>
            <a:ext cx="2573280" cy="3159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0" name="Straight Arrow Connector 117"/>
          <p:cNvCxnSpPr/>
          <p:nvPr/>
        </p:nvCxnSpPr>
        <p:spPr>
          <a:xfrm flipH="1">
            <a:off x="3971160" y="2949120"/>
            <a:ext cx="661320" cy="461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1" name="Straight Arrow Connector 118"/>
          <p:cNvCxnSpPr/>
          <p:nvPr/>
        </p:nvCxnSpPr>
        <p:spPr>
          <a:xfrm flipV="1">
            <a:off x="5000400" y="3657240"/>
            <a:ext cx="595800" cy="44352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32" name="TextBox 119"/>
          <p:cNvSpPr/>
          <p:nvPr/>
        </p:nvSpPr>
        <p:spPr>
          <a:xfrm>
            <a:off x="4021200" y="2976480"/>
            <a:ext cx="3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TH SarabunPSK"/>
              </a:rPr>
              <a:t>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TextBox 120"/>
          <p:cNvSpPr/>
          <p:nvPr/>
        </p:nvSpPr>
        <p:spPr>
          <a:xfrm>
            <a:off x="5097600" y="36115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  <a:ea typeface="TH SarabunPSK"/>
              </a:rPr>
              <a:t>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A170-FB46-4464-A949-160E40DEA773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1"/>
          <p:cNvSpPr/>
          <p:nvPr/>
        </p:nvSpPr>
        <p:spPr>
          <a:xfrm>
            <a:off x="90360" y="1268280"/>
            <a:ext cx="8963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psilo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ทำหน้าที่ควบคุมการเพิ่มประสิทธิภาพในการจำแนกข้อมูล โดยจะช่วยในการลู่เข้าหาค่าไฮเปอร์แพลนที่ดีที่สุดได้ดียิ่งขึ้น เช่น สำหรับการทำงานในแต่ละรอบเพื่อจำแนกข้อมูล ค่าใช้จ่าย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Cost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หรือที่เรียกว่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Loss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มีการคำนวณค่าใช้จ่ายจากการจำแนกผิดคลาสเกิดขึ้น สำหรับการทำงานในรอบถัดไป ไฮเปอร์แพลนจะมีการปรับปรุงตามข้อผิดพลาดที่พบในรอบที่ผ่านมา จนกระทั่งได้ไฮเปอร์เพลนที่มีระยะห่างตามที่กำหนด หรือดีที่สุด การกำหนด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Epsilon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ช่วยให้ลู่เข้าหาคำตอบที่ทำให้ได้ไฮเปอร์เพลนที่ดีที่สุดได้เร็ว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D61-27CF-4352-A965-6CB528304591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453600" y="1090080"/>
            <a:ext cx="8232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Malgun Gothic"/>
                <a:cs typeface="Cordia New"/>
              </a:rPr>
              <a:t>พารามิเตอร์ 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Gamma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2" name="Rectangle 45"/>
          <p:cNvSpPr/>
          <p:nvPr/>
        </p:nvSpPr>
        <p:spPr>
          <a:xfrm>
            <a:off x="758880" y="2081160"/>
            <a:ext cx="33526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Oval 46"/>
          <p:cNvSpPr/>
          <p:nvPr/>
        </p:nvSpPr>
        <p:spPr>
          <a:xfrm>
            <a:off x="1409760" y="28638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Oval 47"/>
          <p:cNvSpPr/>
          <p:nvPr/>
        </p:nvSpPr>
        <p:spPr>
          <a:xfrm>
            <a:off x="1258920" y="331776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Oval 48"/>
          <p:cNvSpPr/>
          <p:nvPr/>
        </p:nvSpPr>
        <p:spPr>
          <a:xfrm>
            <a:off x="1700280" y="331776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Oval 49"/>
          <p:cNvSpPr/>
          <p:nvPr/>
        </p:nvSpPr>
        <p:spPr>
          <a:xfrm>
            <a:off x="1251000" y="372420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Oval 50"/>
          <p:cNvSpPr/>
          <p:nvPr/>
        </p:nvSpPr>
        <p:spPr>
          <a:xfrm>
            <a:off x="1928880" y="29512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Oval 51"/>
          <p:cNvSpPr/>
          <p:nvPr/>
        </p:nvSpPr>
        <p:spPr>
          <a:xfrm>
            <a:off x="2111400" y="356724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Oval 52"/>
          <p:cNvSpPr/>
          <p:nvPr/>
        </p:nvSpPr>
        <p:spPr>
          <a:xfrm>
            <a:off x="1625760" y="398160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Isosceles Triangle 53"/>
          <p:cNvSpPr/>
          <p:nvPr/>
        </p:nvSpPr>
        <p:spPr>
          <a:xfrm>
            <a:off x="2435400" y="2157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Isosceles Triangle 54"/>
          <p:cNvSpPr/>
          <p:nvPr/>
        </p:nvSpPr>
        <p:spPr>
          <a:xfrm>
            <a:off x="232884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Isosceles Triangle 55"/>
          <p:cNvSpPr/>
          <p:nvPr/>
        </p:nvSpPr>
        <p:spPr>
          <a:xfrm>
            <a:off x="303228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Isosceles Triangle 56"/>
          <p:cNvSpPr/>
          <p:nvPr/>
        </p:nvSpPr>
        <p:spPr>
          <a:xfrm>
            <a:off x="2652840" y="29811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Isosceles Triangle 57"/>
          <p:cNvSpPr/>
          <p:nvPr/>
        </p:nvSpPr>
        <p:spPr>
          <a:xfrm>
            <a:off x="2803680" y="3833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Isosceles Triangle 58"/>
          <p:cNvSpPr/>
          <p:nvPr/>
        </p:nvSpPr>
        <p:spPr>
          <a:xfrm>
            <a:off x="3005280" y="3357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Isosceles Triangle 59"/>
          <p:cNvSpPr/>
          <p:nvPr/>
        </p:nvSpPr>
        <p:spPr>
          <a:xfrm>
            <a:off x="1751040" y="2516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Isosceles Triangle 60"/>
          <p:cNvSpPr/>
          <p:nvPr/>
        </p:nvSpPr>
        <p:spPr>
          <a:xfrm>
            <a:off x="2390760" y="3546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Isosceles Triangle 61"/>
          <p:cNvSpPr/>
          <p:nvPr/>
        </p:nvSpPr>
        <p:spPr>
          <a:xfrm>
            <a:off x="3438360" y="2684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Isosceles Triangle 62"/>
          <p:cNvSpPr/>
          <p:nvPr/>
        </p:nvSpPr>
        <p:spPr>
          <a:xfrm>
            <a:off x="3235320" y="3110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Isosceles Triangle 63"/>
          <p:cNvSpPr/>
          <p:nvPr/>
        </p:nvSpPr>
        <p:spPr>
          <a:xfrm>
            <a:off x="3460680" y="37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Oval 64"/>
          <p:cNvSpPr/>
          <p:nvPr/>
        </p:nvSpPr>
        <p:spPr>
          <a:xfrm>
            <a:off x="1684440" y="3670200"/>
            <a:ext cx="1634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Oval 65"/>
          <p:cNvSpPr/>
          <p:nvPr/>
        </p:nvSpPr>
        <p:spPr>
          <a:xfrm>
            <a:off x="911160" y="39099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Oval 66"/>
          <p:cNvSpPr/>
          <p:nvPr/>
        </p:nvSpPr>
        <p:spPr>
          <a:xfrm>
            <a:off x="981000" y="29098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Oval 67"/>
          <p:cNvSpPr/>
          <p:nvPr/>
        </p:nvSpPr>
        <p:spPr>
          <a:xfrm>
            <a:off x="2505240" y="395748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Rectangle 68"/>
          <p:cNvSpPr/>
          <p:nvPr/>
        </p:nvSpPr>
        <p:spPr>
          <a:xfrm>
            <a:off x="5081760" y="2081160"/>
            <a:ext cx="3352680" cy="213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Oval 69"/>
          <p:cNvSpPr/>
          <p:nvPr/>
        </p:nvSpPr>
        <p:spPr>
          <a:xfrm>
            <a:off x="5732640" y="2863800"/>
            <a:ext cx="1634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Oval 70"/>
          <p:cNvSpPr/>
          <p:nvPr/>
        </p:nvSpPr>
        <p:spPr>
          <a:xfrm>
            <a:off x="5581800" y="3317760"/>
            <a:ext cx="1648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Oval 71"/>
          <p:cNvSpPr/>
          <p:nvPr/>
        </p:nvSpPr>
        <p:spPr>
          <a:xfrm>
            <a:off x="6022800" y="3317760"/>
            <a:ext cx="16380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Oval 72"/>
          <p:cNvSpPr/>
          <p:nvPr/>
        </p:nvSpPr>
        <p:spPr>
          <a:xfrm>
            <a:off x="5572080" y="37242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Oval 73"/>
          <p:cNvSpPr/>
          <p:nvPr/>
        </p:nvSpPr>
        <p:spPr>
          <a:xfrm>
            <a:off x="6251400" y="295128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Oval 74"/>
          <p:cNvSpPr/>
          <p:nvPr/>
        </p:nvSpPr>
        <p:spPr>
          <a:xfrm>
            <a:off x="6432480" y="356724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Oval 75"/>
          <p:cNvSpPr/>
          <p:nvPr/>
        </p:nvSpPr>
        <p:spPr>
          <a:xfrm>
            <a:off x="5948280" y="398160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Isosceles Triangle 76"/>
          <p:cNvSpPr/>
          <p:nvPr/>
        </p:nvSpPr>
        <p:spPr>
          <a:xfrm>
            <a:off x="6757920" y="215748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Isosceles Triangle 77"/>
          <p:cNvSpPr/>
          <p:nvPr/>
        </p:nvSpPr>
        <p:spPr>
          <a:xfrm>
            <a:off x="665172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Isosceles Triangle 78"/>
          <p:cNvSpPr/>
          <p:nvPr/>
        </p:nvSpPr>
        <p:spPr>
          <a:xfrm>
            <a:off x="7353360" y="25322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Isosceles Triangle 79"/>
          <p:cNvSpPr/>
          <p:nvPr/>
        </p:nvSpPr>
        <p:spPr>
          <a:xfrm>
            <a:off x="6973920" y="29811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Isosceles Triangle 80"/>
          <p:cNvSpPr/>
          <p:nvPr/>
        </p:nvSpPr>
        <p:spPr>
          <a:xfrm>
            <a:off x="7124760" y="38336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Isosceles Triangle 81"/>
          <p:cNvSpPr/>
          <p:nvPr/>
        </p:nvSpPr>
        <p:spPr>
          <a:xfrm>
            <a:off x="7326360" y="3357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Isosceles Triangle 121"/>
          <p:cNvSpPr/>
          <p:nvPr/>
        </p:nvSpPr>
        <p:spPr>
          <a:xfrm>
            <a:off x="6072120" y="25160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Isosceles Triangle 122"/>
          <p:cNvSpPr/>
          <p:nvPr/>
        </p:nvSpPr>
        <p:spPr>
          <a:xfrm>
            <a:off x="6713640" y="3546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Isosceles Triangle 123"/>
          <p:cNvSpPr/>
          <p:nvPr/>
        </p:nvSpPr>
        <p:spPr>
          <a:xfrm>
            <a:off x="7759800" y="2684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Isosceles Triangle 124"/>
          <p:cNvSpPr/>
          <p:nvPr/>
        </p:nvSpPr>
        <p:spPr>
          <a:xfrm>
            <a:off x="7556400" y="31100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Isosceles Triangle 125"/>
          <p:cNvSpPr/>
          <p:nvPr/>
        </p:nvSpPr>
        <p:spPr>
          <a:xfrm>
            <a:off x="7781760" y="37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Oval 126"/>
          <p:cNvSpPr/>
          <p:nvPr/>
        </p:nvSpPr>
        <p:spPr>
          <a:xfrm>
            <a:off x="6005520" y="367020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Oval 127"/>
          <p:cNvSpPr/>
          <p:nvPr/>
        </p:nvSpPr>
        <p:spPr>
          <a:xfrm>
            <a:off x="5232240" y="3909960"/>
            <a:ext cx="1652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Oval 128"/>
          <p:cNvSpPr/>
          <p:nvPr/>
        </p:nvSpPr>
        <p:spPr>
          <a:xfrm>
            <a:off x="5303880" y="2909880"/>
            <a:ext cx="1648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Oval 129"/>
          <p:cNvSpPr/>
          <p:nvPr/>
        </p:nvSpPr>
        <p:spPr>
          <a:xfrm>
            <a:off x="6827760" y="3957480"/>
            <a:ext cx="1652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Freeform 130"/>
          <p:cNvSpPr/>
          <p:nvPr/>
        </p:nvSpPr>
        <p:spPr>
          <a:xfrm>
            <a:off x="758880" y="2637000"/>
            <a:ext cx="1995480" cy="1589040"/>
          </a:xfrm>
          <a:custGeom>
            <a:avLst/>
            <a:gdLst/>
            <a:ahLst/>
            <a:rect l="l" t="t" r="r" b="b"/>
            <a:pathLst>
              <a:path w="1995854" h="1589129">
                <a:moveTo>
                  <a:pt x="0" y="15306"/>
                </a:moveTo>
                <a:cubicBezTo>
                  <a:pt x="497498" y="-10339"/>
                  <a:pt x="994996" y="-35983"/>
                  <a:pt x="1327638" y="226321"/>
                </a:cubicBezTo>
                <a:cubicBezTo>
                  <a:pt x="1660280" y="488625"/>
                  <a:pt x="1828067" y="1038877"/>
                  <a:pt x="1995854" y="1589129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Freeform 131"/>
          <p:cNvSpPr/>
          <p:nvPr/>
        </p:nvSpPr>
        <p:spPr>
          <a:xfrm>
            <a:off x="5303880" y="2098800"/>
            <a:ext cx="2313000" cy="2119320"/>
          </a:xfrm>
          <a:custGeom>
            <a:avLst/>
            <a:gdLst/>
            <a:ahLst/>
            <a:rect l="l" t="t" r="r" b="b"/>
            <a:pathLst>
              <a:path w="2312377" h="2118946">
                <a:moveTo>
                  <a:pt x="0" y="0"/>
                </a:moveTo>
                <a:cubicBezTo>
                  <a:pt x="141409" y="263769"/>
                  <a:pt x="282819" y="527538"/>
                  <a:pt x="465992" y="641838"/>
                </a:cubicBezTo>
                <a:cubicBezTo>
                  <a:pt x="649165" y="756138"/>
                  <a:pt x="948104" y="523142"/>
                  <a:pt x="1099039" y="685800"/>
                </a:cubicBezTo>
                <a:cubicBezTo>
                  <a:pt x="1249974" y="848458"/>
                  <a:pt x="1169377" y="1378926"/>
                  <a:pt x="1371600" y="1617784"/>
                </a:cubicBezTo>
                <a:cubicBezTo>
                  <a:pt x="1573823" y="1856642"/>
                  <a:pt x="1943100" y="1987794"/>
                  <a:pt x="2312377" y="211894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TextBox 132"/>
          <p:cNvSpPr/>
          <p:nvPr/>
        </p:nvSpPr>
        <p:spPr>
          <a:xfrm>
            <a:off x="1901880" y="5281560"/>
            <a:ext cx="1905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Gamma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น้อย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TextBox 133"/>
          <p:cNvSpPr/>
          <p:nvPr/>
        </p:nvSpPr>
        <p:spPr>
          <a:xfrm>
            <a:off x="6093000" y="528156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H SarabunPSK"/>
                <a:ea typeface="TH SarabunPSK"/>
              </a:rPr>
              <a:t>Gamma </a:t>
            </a:r>
            <a:r>
              <a:rPr b="0" lang="th-TH" sz="3000" spc="-1" strike="noStrike">
                <a:solidFill>
                  <a:srgbClr val="ffffff"/>
                </a:solidFill>
                <a:latin typeface="TH SarabunPSK"/>
                <a:cs typeface="TH SarabunPSK"/>
              </a:rPr>
              <a:t>มาก 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upport Vector Ma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25C9-C9C2-45B3-B4D4-79873BFAA5DF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ectangle 1"/>
          <p:cNvSpPr/>
          <p:nvPr/>
        </p:nvSpPr>
        <p:spPr>
          <a:xfrm>
            <a:off x="179280" y="1268280"/>
            <a:ext cx="878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ป็นพารามิเตอร์สำหรับ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Kernel Radial Basis Function (RBF Kernel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ป็น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Kernel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ที่ใช้จำแนกข้อมูลที่มีลักษณะไม่เชิงเส้น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สำหรับการจำแนกในสองมิติที่ไม่สามารถแบ่งแยกข้อมูลออกเป็นสองคลาสได้ โดยจะใช้การแก้ปัญหาไม่เชิงเส้น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Non-Linear)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ข้ามาจำแนกข้อมูลออกเป็นสองคลาส โดย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จะทำหน้าที่ควบคุมความโค้งของเส้นไฮเปอร์แพลน โดย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มีค่าน้อยส่งผลให้ความกว้างของขอบมีขนาดกว้างขึ้นทำให้มีความยืดหยุ่นในการจำแนกข้อมูลได้ แต่หากค่าพารามิเตอร์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Gamma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มีค่าสูงจะส่งผลให้ความกว้างของขอบมีขนาดแคบทำให้อาจจะเกิดปัญหา </a:t>
            </a:r>
            <a:r>
              <a:rPr b="0" lang="en-US" sz="3200" spc="-1" strike="noStrike">
                <a:solidFill>
                  <a:srgbClr val="ffffff"/>
                </a:solidFill>
                <a:latin typeface="Angsana New"/>
              </a:rPr>
              <a:t>Over Fitting 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ได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chine learn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y = f(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ining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abeled examp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, …,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timate the prediction functi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inimizing the prediction error on the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never before s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utput the predicted valu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 = f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3" name="Straight Arrow Connector 4"/>
          <p:cNvCxnSpPr/>
          <p:nvPr/>
        </p:nvCxnSpPr>
        <p:spPr>
          <a:xfrm flipV="1">
            <a:off x="3580200" y="2591640"/>
            <a:ext cx="2520" cy="685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4" name="Straight Arrow Connector 6"/>
          <p:cNvCxnSpPr/>
          <p:nvPr/>
        </p:nvCxnSpPr>
        <p:spPr>
          <a:xfrm flipV="1">
            <a:off x="4721760" y="2591640"/>
            <a:ext cx="396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5" name="Straight Arrow Connector 7"/>
          <p:cNvCxnSpPr/>
          <p:nvPr/>
        </p:nvCxnSpPr>
        <p:spPr>
          <a:xfrm flipH="1" flipV="1">
            <a:off x="5333760" y="2590200"/>
            <a:ext cx="91512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6" name="TextBox 8"/>
          <p:cNvSpPr/>
          <p:nvPr/>
        </p:nvSpPr>
        <p:spPr>
          <a:xfrm>
            <a:off x="3218400" y="3276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Box 9"/>
          <p:cNvSpPr/>
          <p:nvPr/>
        </p:nvSpPr>
        <p:spPr>
          <a:xfrm>
            <a:off x="3822840" y="3276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prediction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Box 10"/>
          <p:cNvSpPr/>
          <p:nvPr/>
        </p:nvSpPr>
        <p:spPr>
          <a:xfrm>
            <a:off x="5499000" y="3276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ngsana New"/>
              </a:rPr>
              <a:t>Image 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Box 11"/>
          <p:cNvSpPr/>
          <p:nvPr/>
        </p:nvSpPr>
        <p:spPr>
          <a:xfrm>
            <a:off x="7318800" y="658188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ounded Rectangle 29"/>
          <p:cNvSpPr/>
          <p:nvPr/>
        </p:nvSpPr>
        <p:spPr>
          <a:xfrm>
            <a:off x="7315200" y="55627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ounded Rectangle 9"/>
          <p:cNvSpPr/>
          <p:nvPr/>
        </p:nvSpPr>
        <p:spPr>
          <a:xfrm>
            <a:off x="5257800" y="99072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3" name="Group 12"/>
          <p:cNvGrpSpPr/>
          <p:nvPr/>
        </p:nvGrpSpPr>
        <p:grpSpPr>
          <a:xfrm>
            <a:off x="76320" y="1569960"/>
            <a:ext cx="2438280" cy="3078360"/>
            <a:chOff x="76320" y="1569960"/>
            <a:chExt cx="2438280" cy="3078360"/>
          </a:xfrm>
        </p:grpSpPr>
        <p:sp>
          <p:nvSpPr>
            <p:cNvPr id="1134" name="TextBox 7"/>
            <p:cNvSpPr/>
            <p:nvPr/>
          </p:nvSpPr>
          <p:spPr>
            <a:xfrm>
              <a:off x="380880" y="1569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ngsana New"/>
                </a:rPr>
                <a:t>Training Imag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Rounded Rectangle 10"/>
            <p:cNvSpPr/>
            <p:nvPr/>
          </p:nvSpPr>
          <p:spPr>
            <a:xfrm>
              <a:off x="76320" y="1603080"/>
              <a:ext cx="2438280" cy="3045240"/>
            </a:xfrm>
            <a:custGeom>
              <a:avLst/>
              <a:gdLst>
                <a:gd name="textAreaLeft" fmla="*/ 118800 w 2438280"/>
                <a:gd name="textAreaRight" fmla="*/ 2319480 w 2438280"/>
                <a:gd name="textAreaTop" fmla="*/ 118800 h 3045240"/>
                <a:gd name="textAreaBottom" fmla="*/ 2926440 h 3045240"/>
              </a:gdLst>
              <a:ahLst/>
              <a:rect l="textAreaLeft" t="textAreaTop" r="textAreaRight" b="textAreaBottom"/>
              <a:pathLst>
                <a:path w="21600" h="26976">
                  <a:moveTo>
                    <a:pt x="3600" y="0"/>
                  </a:moveTo>
                  <a:arcTo wR="3600" hR="3600" stAng="16200000" swAng="-5400000"/>
                  <a:lnTo>
                    <a:pt x="0" y="23376"/>
                  </a:lnTo>
                  <a:arcTo wR="3600" hR="3600" stAng="10800000" swAng="-5400000"/>
                  <a:lnTo>
                    <a:pt x="18000" y="269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Rounded Rectangle 11"/>
          <p:cNvSpPr/>
          <p:nvPr/>
        </p:nvSpPr>
        <p:spPr>
          <a:xfrm>
            <a:off x="5410080" y="24382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Box 13"/>
          <p:cNvSpPr/>
          <p:nvPr/>
        </p:nvSpPr>
        <p:spPr>
          <a:xfrm>
            <a:off x="552600" y="83808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ounded Rectangle 14"/>
          <p:cNvSpPr/>
          <p:nvPr/>
        </p:nvSpPr>
        <p:spPr>
          <a:xfrm>
            <a:off x="3200400" y="24382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ight Arrow 15"/>
          <p:cNvSpPr/>
          <p:nvPr/>
        </p:nvSpPr>
        <p:spPr>
          <a:xfrm>
            <a:off x="2590920" y="274320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ight Arrow 16"/>
          <p:cNvSpPr/>
          <p:nvPr/>
        </p:nvSpPr>
        <p:spPr>
          <a:xfrm>
            <a:off x="4800600" y="274320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ight Arrow 17"/>
          <p:cNvSpPr/>
          <p:nvPr/>
        </p:nvSpPr>
        <p:spPr>
          <a:xfrm rot="5400000">
            <a:off x="5820840" y="19810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ounded Rectangle 18"/>
          <p:cNvSpPr/>
          <p:nvPr/>
        </p:nvSpPr>
        <p:spPr>
          <a:xfrm>
            <a:off x="2743200" y="55627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ight Arrow 19"/>
          <p:cNvSpPr/>
          <p:nvPr/>
        </p:nvSpPr>
        <p:spPr>
          <a:xfrm>
            <a:off x="2133720" y="586728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Box 20"/>
          <p:cNvSpPr/>
          <p:nvPr/>
        </p:nvSpPr>
        <p:spPr>
          <a:xfrm>
            <a:off x="617040" y="48006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Box 21"/>
          <p:cNvSpPr/>
          <p:nvPr/>
        </p:nvSpPr>
        <p:spPr>
          <a:xfrm>
            <a:off x="448560" y="6396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ngsana New"/>
              </a:rPr>
              <a:t>Test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ight Arrow 22"/>
          <p:cNvSpPr/>
          <p:nvPr/>
        </p:nvSpPr>
        <p:spPr>
          <a:xfrm>
            <a:off x="6858000" y="274320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ounded Rectangle 23"/>
          <p:cNvSpPr/>
          <p:nvPr/>
        </p:nvSpPr>
        <p:spPr>
          <a:xfrm>
            <a:off x="7543800" y="243828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ounded Rectangle 24"/>
          <p:cNvSpPr/>
          <p:nvPr/>
        </p:nvSpPr>
        <p:spPr>
          <a:xfrm>
            <a:off x="5181480" y="55627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f1f9f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ight Arrow 25"/>
          <p:cNvSpPr/>
          <p:nvPr/>
        </p:nvSpPr>
        <p:spPr>
          <a:xfrm>
            <a:off x="4572000" y="5867280"/>
            <a:ext cx="5335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30"/>
          <p:cNvSpPr/>
          <p:nvPr/>
        </p:nvSpPr>
        <p:spPr>
          <a:xfrm>
            <a:off x="6324480" y="65818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Slide credit: D. Hoiem and L. Lazeb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ight Arrow 31"/>
          <p:cNvSpPr/>
          <p:nvPr/>
        </p:nvSpPr>
        <p:spPr>
          <a:xfrm>
            <a:off x="6934320" y="58672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2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2238480" cy="190512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2"/>
          <a:stretch/>
        </p:blipFill>
        <p:spPr>
          <a:xfrm>
            <a:off x="914400" y="563868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EBE6-F4BE-4FC2-B3A7-88703436F2C2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23" descr=""/>
          <p:cNvPicPr/>
          <p:nvPr/>
        </p:nvPicPr>
        <p:blipFill>
          <a:blip r:embed="rId1"/>
          <a:stretch/>
        </p:blipFill>
        <p:spPr>
          <a:xfrm>
            <a:off x="179280" y="2411280"/>
            <a:ext cx="6985080" cy="380052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25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1AE-563B-4A87-8589-0708798CD3F4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8" name="Picture 1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850160" cy="304020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9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4690-CE6F-4EAD-85E1-1341B408764E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6" name="Picture 2" descr=""/>
          <p:cNvPicPr/>
          <p:nvPr/>
        </p:nvPicPr>
        <p:blipFill>
          <a:blip r:embed="rId1"/>
          <a:stretch/>
        </p:blipFill>
        <p:spPr>
          <a:xfrm>
            <a:off x="65160" y="2428920"/>
            <a:ext cx="8202600" cy="344808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9"/>
          <p:cNvSpPr/>
          <p:nvPr/>
        </p:nvSpPr>
        <p:spPr>
          <a:xfrm>
            <a:off x="65160" y="64101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ngsana New"/>
              </a:rPr>
              <a:t>http://www.myarduino.net/b/3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4A1D-E64C-42EF-BE71-9D6FD34A96B6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ounded Rectangle 9"/>
          <p:cNvSpPr/>
          <p:nvPr/>
        </p:nvSpPr>
        <p:spPr>
          <a:xfrm>
            <a:off x="5398920" y="115416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ight Arrow 10"/>
          <p:cNvSpPr/>
          <p:nvPr/>
        </p:nvSpPr>
        <p:spPr>
          <a:xfrm>
            <a:off x="47894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ight Arrow 12"/>
          <p:cNvSpPr/>
          <p:nvPr/>
        </p:nvSpPr>
        <p:spPr>
          <a:xfrm>
            <a:off x="68468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ounded Rectangle 13"/>
          <p:cNvSpPr/>
          <p:nvPr/>
        </p:nvSpPr>
        <p:spPr>
          <a:xfrm>
            <a:off x="7532640" y="11541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ounded Rectangle 31"/>
          <p:cNvSpPr/>
          <p:nvPr/>
        </p:nvSpPr>
        <p:spPr>
          <a:xfrm>
            <a:off x="5284800" y="24120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1454040" y="3284640"/>
          <a:ext cx="6672240" cy="1854000"/>
        </p:xfrm>
        <a:graphic>
          <a:graphicData uri="http://schemas.openxmlformats.org/drawingml/2006/table">
            <a:tbl>
              <a:tblPr/>
              <a:tblGrid>
                <a:gridCol w="666720"/>
                <a:gridCol w="668520"/>
                <a:gridCol w="666720"/>
                <a:gridCol w="666720"/>
                <a:gridCol w="666720"/>
                <a:gridCol w="668520"/>
                <a:gridCol w="666720"/>
                <a:gridCol w="666720"/>
                <a:gridCol w="614160"/>
                <a:gridCol w="72072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a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ti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d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algun Gothic"/>
                        </a:rPr>
                        <a:t>ti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1190" name="Straight Arrow Connector 33"/>
          <p:cNvCxnSpPr/>
          <p:nvPr/>
        </p:nvCxnSpPr>
        <p:spPr>
          <a:xfrm flipH="1">
            <a:off x="5322600" y="2205000"/>
            <a:ext cx="545040" cy="93744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sto MT"/>
              </a:rPr>
              <a:t>Benefits of Data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ชื่อเรื่อง 1"/>
          <p:cNvSpPr/>
          <p:nvPr/>
        </p:nvSpPr>
        <p:spPr>
          <a:xfrm>
            <a:off x="0" y="11160"/>
            <a:ext cx="9144000" cy="94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ttern Recogni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ตัวแทนหมายเลขภาพนิ่ง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7FE-709B-417A-8336-9B514ED8D8DC}" type="slidenum">
              <a:rPr b="0" lang="ko-KR" sz="1200" spc="-1" strike="noStrike">
                <a:solidFill>
                  <a:srgbClr val="898989"/>
                </a:solidFill>
                <a:latin typeface="Arial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ounded Rectangle 11"/>
          <p:cNvSpPr/>
          <p:nvPr/>
        </p:nvSpPr>
        <p:spPr>
          <a:xfrm>
            <a:off x="65160" y="1082520"/>
            <a:ext cx="2438280" cy="9795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Im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ounded Rectangle 14"/>
          <p:cNvSpPr/>
          <p:nvPr/>
        </p:nvSpPr>
        <p:spPr>
          <a:xfrm>
            <a:off x="3189240" y="11145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Image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ight Arrow 15"/>
          <p:cNvSpPr/>
          <p:nvPr/>
        </p:nvSpPr>
        <p:spPr>
          <a:xfrm>
            <a:off x="2579760" y="141912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ounded Rectangle 9"/>
          <p:cNvSpPr/>
          <p:nvPr/>
        </p:nvSpPr>
        <p:spPr>
          <a:xfrm>
            <a:off x="5398920" y="115416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ight Arrow 10"/>
          <p:cNvSpPr/>
          <p:nvPr/>
        </p:nvSpPr>
        <p:spPr>
          <a:xfrm>
            <a:off x="47894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ight Arrow 12"/>
          <p:cNvSpPr/>
          <p:nvPr/>
        </p:nvSpPr>
        <p:spPr>
          <a:xfrm>
            <a:off x="6846840" y="145908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ounded Rectangle 13"/>
          <p:cNvSpPr/>
          <p:nvPr/>
        </p:nvSpPr>
        <p:spPr>
          <a:xfrm>
            <a:off x="7532640" y="115416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Learn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1" name="Picture 2" descr="ผลการค้นหารูปภาพสำหรับ blackbox"/>
          <p:cNvPicPr/>
          <p:nvPr/>
        </p:nvPicPr>
        <p:blipFill>
          <a:blip r:embed="rId1"/>
          <a:stretch/>
        </p:blipFill>
        <p:spPr>
          <a:xfrm>
            <a:off x="5464080" y="2766960"/>
            <a:ext cx="3679920" cy="2292480"/>
          </a:xfrm>
          <a:prstGeom prst="rect">
            <a:avLst/>
          </a:prstGeom>
          <a:ln w="0">
            <a:noFill/>
          </a:ln>
        </p:spPr>
      </p:pic>
      <p:cxnSp>
        <p:nvCxnSpPr>
          <p:cNvPr id="1202" name="Straight Arrow Connector 2"/>
          <p:cNvCxnSpPr/>
          <p:nvPr/>
        </p:nvCxnSpPr>
        <p:spPr>
          <a:xfrm>
            <a:off x="7619760" y="2152440"/>
            <a:ext cx="113400" cy="72612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203" name="Straight Arrow Connector 17"/>
          <p:cNvCxnSpPr/>
          <p:nvPr/>
        </p:nvCxnSpPr>
        <p:spPr>
          <a:xfrm flipH="1">
            <a:off x="4028400" y="2068200"/>
            <a:ext cx="3351960" cy="81036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pic>
        <p:nvPicPr>
          <p:cNvPr id="1204" name="Picture 4" descr="http://pngimg.com/upload/tree_PNG215.png"/>
          <p:cNvPicPr/>
          <p:nvPr/>
        </p:nvPicPr>
        <p:blipFill>
          <a:blip r:embed="rId2"/>
          <a:stretch/>
        </p:blipFill>
        <p:spPr>
          <a:xfrm>
            <a:off x="2209680" y="2192400"/>
            <a:ext cx="2011320" cy="2795400"/>
          </a:xfrm>
          <a:prstGeom prst="rect">
            <a:avLst/>
          </a:prstGeom>
          <a:ln w="0">
            <a:noFill/>
          </a:ln>
        </p:spPr>
      </p:pic>
      <p:cxnSp>
        <p:nvCxnSpPr>
          <p:cNvPr id="1205" name="Straight Arrow Connector 20"/>
          <p:cNvCxnSpPr/>
          <p:nvPr/>
        </p:nvCxnSpPr>
        <p:spPr>
          <a:xfrm flipH="1">
            <a:off x="4571640" y="2068560"/>
            <a:ext cx="2961360" cy="276912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med"/>
          </a:ln>
        </p:spPr>
      </p:cxnSp>
      <p:pic>
        <p:nvPicPr>
          <p:cNvPr id="1206" name="Picture 4" descr="ผลการค้นหารูปภาพสำหรับ Probability"/>
          <p:cNvPicPr/>
          <p:nvPr/>
        </p:nvPicPr>
        <p:blipFill>
          <a:blip r:embed="rId3"/>
          <a:stretch/>
        </p:blipFill>
        <p:spPr>
          <a:xfrm>
            <a:off x="2871720" y="5002200"/>
            <a:ext cx="3245040" cy="1569960"/>
          </a:xfrm>
          <a:prstGeom prst="rect">
            <a:avLst/>
          </a:prstGeom>
          <a:ln w="0">
            <a:noFill/>
          </a:ln>
        </p:spPr>
      </p:pic>
      <p:sp>
        <p:nvSpPr>
          <p:cNvPr id="1207" name="Rounded Rectangle 31"/>
          <p:cNvSpPr/>
          <p:nvPr/>
        </p:nvSpPr>
        <p:spPr>
          <a:xfrm>
            <a:off x="5284800" y="241200"/>
            <a:ext cx="160020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lgun Gothic"/>
              </a:rPr>
              <a:t>Training La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18:47:44Z</dcterms:created>
  <dc:creator>Richard J. Roiger</dc:creator>
  <dc:description/>
  <cp:keywords>Addison-Wesley Publishing</cp:keywords>
  <dc:language>en-US</dc:language>
  <cp:lastModifiedBy>Zaguraba Kongchai</cp:lastModifiedBy>
  <cp:lastPrinted>2001-11-21T22:42:06Z</cp:lastPrinted>
  <dcterms:modified xsi:type="dcterms:W3CDTF">2018-01-18T08:05:28Z</dcterms:modified>
  <cp:revision>460</cp:revision>
  <dc:subject/>
  <dc:title>Data Mining A Tutorial-Based Primer</dc:title>
</cp:coreProperties>
</file>