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79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80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81"/>
          </p:nvPr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4FE5-D41A-4FB8-A330-9B45263CE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A77-8F5E-4939-957A-4CFECC7110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9065-58BF-4F2C-B1C4-E7528E4747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72DD-507B-422E-9B00-6064E80431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18A4-579A-4687-81FE-066FEF08F1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5BC-7757-4336-91CF-A7675CB9AE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1911-4F0B-465D-AADB-E47B381C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AC28-90D2-4046-9538-A227AD9F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78D9-1A28-4F44-BB30-992609E4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CD4D-5552-4690-8F65-3D2CC11A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AC7B9-D44B-41E6-AC45-1C6C4284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0F2D-25D5-4D8B-A262-FA4CEDF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F0463-6C0C-4C94-BB30-D028835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827A-C223-444E-AE71-916642F2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F1AE1-DB5E-4DE7-8977-16B0776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F55D5-7BC1-4FAB-B873-1CEAE06A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AF39-850D-4D94-AA64-988F06D2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78120-2BC0-4C3E-A1D0-49FCA749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6997-67C8-49AE-9F9C-A4A09A12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A33A0-FF9F-48D6-BB0E-E7A5B1F3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078E6-F82F-4156-938E-D6A21D8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15AA1-C66E-4E5A-93F6-401FE632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22F47-2F8C-4599-8080-A185FBD7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DEF89-3844-487C-86EC-16BDB440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ED9A4-18B7-4E22-82F1-15B8F39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18789-39AE-480F-859B-9E931EF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341BF-68A5-4B9D-A9F9-9B8E5EC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851DA-A46B-4AEA-857F-ABB72548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2F664-D31A-466E-8172-16B941A2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FF29-1C51-47DC-BC45-7FA9E163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1FF0E-90DA-4D04-A0F2-113D9C2A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797C0-EF5E-4ADA-BEC3-0458AA08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D8B51-E0E0-48A1-92C7-0054F35B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04B1E-95D2-4165-8D1A-B380116E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7F35F-E693-454B-ADC0-6099EDEB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CEDB0-D078-48A3-9A71-0AFA963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1DD30-4572-4E0F-A1A5-37DA4CB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DDDC6-C939-4E31-B0BA-36436D1B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E403B-9269-49E0-99F8-429DDD4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98842-1032-4CDD-8B37-12B0808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98C-3937-4EF7-99C2-2FDFE234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EA8FA-F1BD-4420-BFB8-0346824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24947-4B76-4DB2-ABE6-318391FE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A5EEC-66AA-4E67-85B9-C0067C0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854B8-4974-44A1-AF65-44BD9286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D0AB-0766-472D-9A38-1F95541E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2A84-80A4-4281-B48D-307B7DD0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67C1D-BF50-4F22-9973-430A960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64CD1-A375-48F5-BD9D-0FAA2382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87441-FB9C-4270-BBC8-151BC087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0D1BC-6D9E-440F-958D-229314B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DCDB-64D7-419A-82DB-AC9F0D5A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41BA6-1C39-4456-9117-C5767CE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1E98F-9AE0-48B0-AC17-67A41B15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B7B46-CE34-4282-9430-76391DE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9CFC7-25C0-4CB7-81CA-1C5317EB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762E-7C5F-4620-A79A-9984739F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29ECC-9DDC-45E2-9B0C-E826D748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14AB8-7A63-4B5B-A4C7-780018A4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79C1C-ED9F-4500-9D1D-D657E799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17283-1E3A-47A8-936A-826B4F3F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E69F4-5AD6-4BAC-B718-D02AB23E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5851-7671-4E1C-A24C-93CF8219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0C091-6EB9-4D95-BAFF-746CC62F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5397B-B088-4C3D-8714-72141D2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DB187-963C-4E30-AB50-EC855E9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FC5AA-1E66-4D57-B4FD-F1DC397D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BBFCC-3A04-4942-A5F3-355165B7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10BFD-42EB-4747-896C-416A2186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9D31B-0BF9-4AEF-82BD-103C5833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A19DA-C401-4D82-B613-0C5CC02E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45434-2D8F-4E1A-81A0-47D0983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06CB1-50D7-4B26-A0D6-34556F2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E61-4EFE-44E2-9961-838322ED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00424-489D-4D30-A243-591AAF80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FF052-5645-4FC7-83FC-83A1363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8D6ED-C9E8-4149-9CB5-65607A80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672DC-8F4A-48DA-90A3-F4D639B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16866-4256-4871-BBCF-CC8DC0E0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40ED0-959D-4BAB-9B0E-79750562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01FEA-E92C-4308-8086-FB759BBC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22DD5-029F-4F87-B7E0-EF088452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109FD-75F9-4342-B3C1-515F90E9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E78CE-1293-4EFB-BA31-2DBDF0FC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2A8-6942-400E-80C1-A54DF0C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39E7E-733B-4A26-9547-5744649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782C3-7560-433F-9511-FB4FFA1A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DF72E-F3E6-4546-B10F-1C66B976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86E43-A9CB-4E91-8AA0-AD72FE2A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289F4-06ED-4EA0-BA04-8F56BEC9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2BAB4-DD3E-4B5F-9D06-21EEC54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76C6D-2D63-4F39-BC20-AC9895A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8C774-4502-46FC-A02D-6987F5B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A41E6-DCD2-4BE6-95FC-4300EB0C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AE085-78F5-4031-9E1A-49222221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DF4F-1FA0-4BBE-8882-065BBDC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2208A-E8AA-4FF7-AD82-FEE65E1E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533C8-321D-43AF-B5F6-6A538FA9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BB32D-576F-4C2D-808A-B3AAFEF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36019-EF67-455E-9023-FF5D9337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AD6DC-4418-4A4B-B3B2-3B078F70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836C3-24AA-40AD-9FC5-519301F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25B15-C6D8-44D4-9369-4B7E4FE2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72461-A93F-4820-ACCB-17D187BF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7BE1B-5EEB-4D7F-9CDF-59715B05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4CFFE-02D7-4396-B5CB-387457E1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2199-9AC2-4494-8E5E-B47C6A2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A1686-62A8-4918-B66E-D2F7269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49E41-01A3-4D3F-BEF1-5B1760E2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2305B-24F9-491E-B408-1F8053FE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C3ECC-7470-48D0-8CBB-AF613B72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836D1-299F-4732-B711-2D2C4A4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42D31-6B07-4ED1-B96B-7725EDA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0E8F0-10D8-43FD-9F11-9184776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DD80A-BD18-48E7-B1F8-B071B023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677B9-E109-499A-961D-587B2C2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C0715-C1BF-4A51-8EAF-29CE0CB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649C-0CED-41CA-8147-AC86F923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A1AE-5E76-4E1F-8B21-3FADBE68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4F1B3-FB68-4485-AC35-F720586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07DCC-2C97-4298-8195-C7B5627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65778-C470-45EF-A41A-06AEBC3C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FFF9C-6663-4952-8ECC-186DE4F1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F5C67-B14E-46FA-94D6-5E26148F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7EB6B-B999-4B88-BB0A-3E520B09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6E892-EF40-4A3A-8365-7BAC7B0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1A2C8-35F7-4F30-A17E-540FF76D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25B7B-35B4-4DEE-AAE4-C73313BA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BAC2A-78EC-409F-8B0E-CB1AC49D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6E98-1CAB-4147-8F4F-246C930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9F850-8F4B-44BF-B69D-485EF78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4379A-D948-4954-B3A7-2E447A7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1501C-D1E9-4C34-8895-0A93228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EA5705-E077-48D3-A57B-14E0DF07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2978D-5871-4E48-92E4-F61A024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6CC9D-B73C-4FA4-85CD-B3573315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4344C-846F-4D02-938E-DC2E661C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14F77-BAE5-477C-9B83-380D07F2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C4990-6B0B-4ADD-A6F2-E57790D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DBF74-60DD-4E93-9207-9CD76E3E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17FF-FE20-475E-BA92-6E8FE01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20507-1FFB-49C8-990B-0A49861F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EAFE1-4E19-4F02-B967-B2DD7E05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56EA1-5194-4344-A12F-DE8566B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5B4DC-209A-454D-AAB0-ED849D8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7EF5D-28F8-4351-B377-0BE3D75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64FE2-36F8-4FAB-A4DA-6A5591C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A0217-F57E-4811-8B06-30110B2E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6E850-836D-48B4-9768-D3D9B6B8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DA119-8B5B-4645-93FE-F0AC4FE2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E5139-874D-40F2-A274-DC6C5637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4FFE-043D-41D9-9D40-E547D317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C1919-04D0-4CCB-9E3C-38ACF46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CA6B5-F2D6-467B-9DC5-F9AB723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72F13-ADED-45A5-A7B0-15148EA4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0B18F2-3F0E-4120-BB93-B1302BE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97AD9-45FD-4F82-A367-7A4FECFE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D2D21-84BA-4916-B463-E44F762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F1DEA-9144-47E3-87CD-DB1C3627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4151E-4CEE-46DB-A639-A72F6E0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A201C-6696-47D4-983A-19EA2048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AADF3-2A78-4BA1-A3CF-FA30FFBE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DEC9-234E-49AC-981A-3FDC084F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8E136-951F-4D85-9B63-E3F5F4F9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CC407-F528-424F-A56B-1926BA02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937DD-DCA6-480C-8EC6-1AAC573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D44FD-A61A-40C4-BC53-9F9A4BBD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E2A0E-A164-4E19-9DA5-5B284632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F6119-358C-40DF-8BD5-1D0466AB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8D8BC-26DC-4D7C-95F8-182C8CF3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4B660-BD6E-4ADF-9411-371C0B8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4DD17-7D17-4D02-9928-75A62950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01938-0AC8-48F6-B2CE-D126C36C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9399-81E6-4AB1-BE66-0416152A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EA2329-67CA-4CB9-9D2B-688DE21D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2EBD1-FC6C-4941-836B-D238A588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7172B-353F-4BA2-A377-5D362D3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2478F-8DCE-4BD5-9A8A-FC56518A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32918-EA25-46E8-B65E-F5A9A52F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71534C-5227-4630-AC8E-2B67F98D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8179E-920C-448A-84C8-1EEBB585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01DCA-1923-4C80-BE43-AF8A85C6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84E8C-7483-4C72-A9D2-55BAAA6D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CD065-3429-46C2-9EE5-21E3F08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FC0A-77DE-4075-BF59-F6FA0BBF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238DF-53EE-4B72-B7EB-7E4AC68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9A919-A402-40B6-9E4B-5C3E052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0CF030-8FB6-4120-8AEF-067ADC0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2B53C-0970-470E-9E6A-45B7158F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7DB24-7FB3-478D-B090-6EAE538F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76FC5-9D09-4F2B-B47F-915F1733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F26DF-9E11-4C78-813A-9C93BA1C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A73675-C3DE-4350-8923-DE182102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0E658F-727B-46D1-B6C9-A1931D4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57DF3C-7EA2-41C1-B201-D7D140E0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A5CB-0440-4089-8A2D-FED66D62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31ACC5-DC45-421B-BFFB-626C8B0A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E04D3-4FDC-4228-AFB0-3B7F03A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C3FE66-3CBE-4484-845B-B1E1D38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AA447-F498-470E-AB59-AB7EB64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5EAF1B-303D-4C63-8130-1DC3CE05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A17F0-D025-4E90-A76C-2B215777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9EF207-437B-4468-B659-177F20BB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BEBB0-E743-4884-844A-D1216B71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D86D80-4B3F-4DA8-80DC-1E57245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837FE-D893-44C1-B6CE-5FBFB0D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D0F8-BEB4-4267-9D3B-5D491CE3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3F645-1454-4BED-B64A-6B2EDF0D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552F78-FC5C-4D64-AD24-511FCBA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E0671-4D7D-45FC-B6CA-23ACDD7C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818162-2293-471E-A249-3994D328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D89CD-5260-4315-99B5-04EAFBA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902B1-08AF-486D-BAB2-05A72817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8E67A8-2A53-4C45-BE59-783E506B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825133-F877-464D-998E-F15C4429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67F74-A67F-44A8-8802-28FE3A7B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F056CF-D4F2-4919-AD24-F634C749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2A5B-15B1-4A55-9A2D-83CC66F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E1B313-8C62-44B3-A5F2-6E415CA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FEA9A5-86AE-4089-BBA6-B60CCDE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F55D61-64B4-4954-94FE-1C6789A9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B3AC1-3BFF-4560-8C81-22886FA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2D62F6-0B96-423F-A1A0-9DA27807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08FEA6-6A3B-4E84-9E1E-A7FCC10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915ACA-D85A-4929-A36E-6469906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F3C2AD-C06E-4F15-9569-C7ED4FE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D3A660-CFE5-4B90-A8C7-18CF3DB6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CA7DD1-F50F-4C38-9F0B-3967FC00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E1E7-AB86-4198-8306-107CCE70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6BFA-8ACF-4941-8DB9-BB5F4769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0767C-CC54-43D4-894C-17F5875C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A47D09-C7BC-486E-9821-22CC0AA3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F23D7-0F06-4EE7-A440-AE09772C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CDE62C-FB82-41A5-B34D-72EA5AF1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CE5C69-22D4-464E-ADEB-6A07E648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CB668-9CF5-4492-A474-80B10BA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6FA2FD-015A-4D9D-A6B2-0DD126A2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6DE1E5-3576-4A5B-B590-5AFBE8A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1AB0B7-2885-4070-9DEF-F033ABB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395656-94B0-4A0D-AF84-8A85A987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EF2B-34DA-4037-A0B7-A7EEBFB6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0CDD48-C1C3-47B3-95B3-BFB0AD26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11A02F-C2C1-4FDB-B5B3-4829D5B7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E52B19-083A-4459-99BF-BAB91BA1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BEBA53-A310-4723-97F9-64D6512E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27A7A7-D582-45D3-84BC-00DDCCFD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FD3F5C-DF3E-4D02-B4D6-FB8A8B5C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968DEE-D42E-48AD-8922-73CF1BD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8605C1-A307-4B45-8A78-B7BFCCE3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A3940A-B306-489C-98C1-783C7EF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FFDF0B-20C1-4013-8C2A-7DFEF8D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FA39-DFE3-47F6-9264-F12C8291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7F5B5-E55F-4377-A7A0-382634D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E442CE-635F-4B17-9985-B55C9C0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B326FD-040F-430E-9F0A-561FFDB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BD4C30-64D1-4E7E-884F-613C2074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E6DB94-1468-4F5A-ADC2-5AEA1024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A04B-EB58-4031-8295-819C4E91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2C55-F442-40A2-9E45-95B33609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E5E9-4BAE-471E-A127-131166C6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9137-1C70-4B82-BD7A-754241AF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CCD5-8158-48E9-98B5-425C937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9697-AC20-4CB4-8BCD-CD9818D9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F4BA-676A-44DB-9342-694175B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6B61-C912-4841-99C3-B996AA1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7CCB-9AD0-4E43-8F8F-5E0D2BDA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B98C-5033-49E5-AFBF-171F73B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3821-75CF-4A5F-B186-8188E538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F161-C333-4BA6-BAD6-F8104F42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F2F1-1381-4A80-815B-28F8C055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E88A-8A78-415C-98EB-4DCF6C4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5250-0A2A-40FB-B1D9-27877CBB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FAE5-5E0F-47F2-A92F-F437881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3836-62FA-46B6-B194-3CE34168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6622-3411-4A6A-AC83-82B7BAF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D22B3-10BC-44D3-98E9-110DDE4C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C2A4-FE67-48A0-9F7F-F311C525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643A-0B52-454B-93D2-229F796D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8969-1809-4886-8DAE-663AE4AB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E5822-B93C-4A75-B5E5-70E89646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E33E1-B90B-4C36-AB34-414DAABA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DE941-3CF3-4F6E-AC5A-EA323791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6706-2BA5-4DB8-82BE-8B9A5C9E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677E-5079-4E7B-9703-E2F134F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8923-4792-495C-B0C2-7435C0C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15AA-85D2-4276-914E-E092D502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CE75-57E1-409A-8A48-99106A1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F2CE-7C6F-4994-8780-8B7812A5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30062-0D88-49DD-A5A0-360351EB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DE89D-7A9B-4C91-B72D-784308C3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C41B-FDFF-49B7-A857-1B8AE7A1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398A-63B8-4D6D-B265-E93CED6D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C54F5-FD72-46DF-9CB5-621E1686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A395-30F5-4C99-99E9-6943F11E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7C4C-810D-40A2-AAA2-3584ABA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7B9ED-FF02-497C-9577-F0DC8AF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29B1-BF3F-4AE1-8966-2F684F4E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43CC9-A887-48C1-A147-261107C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E9CF-9E8E-461B-A29A-81E2040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AE90-858F-4C47-87C4-46E4A6E0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D17E-B5D9-4CD4-8CAF-270B89AC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964A7-31AC-4955-9F29-3B95D223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DC8A-DA1F-41E5-97C3-B4F1EE3F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4F3D6-0658-4E7E-9AF6-A72C8A7A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FF57A-1C89-477E-B97B-CE904BC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D2362-6AC6-45C9-9DE0-B1DC14E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A6195-DCEA-4E92-BAE2-51EE877E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7E9A-8151-4373-AB80-63200B5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0B525-8B55-4FF3-8A5B-B0AF6DD0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047AA-E298-4040-A825-9C16A14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0F7B-7FAA-4A45-8419-4B8A1FB8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EF06-9B07-4861-AF41-67E363C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E0BD-C0F7-4F65-BD86-362D371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0892-9C7A-4BE9-9259-7501133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B865-1CED-4FEA-8027-975CADAB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D9EB-52F5-41FC-9B20-505ECF85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F181-CE7D-411D-A8B7-702421B4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7C5CA-AE0A-461D-80F0-1BF64578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4A84-1ED1-40E3-86DF-46CAFF0D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CD30-C428-428B-B46E-911F1700DC86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9E3F-B1B9-4CA9-80E2-61887DC5D94E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CC06-BADB-4315-9304-13D016F976DC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F38F-C57B-47AD-BCA6-F5EF62C305F9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2AB-98F8-493B-AAA4-A96DD5859AFF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F964-4F65-4ECC-B55E-C5683F5A9137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AB18-528D-41C8-BE15-9FEBC043374D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57B-E44D-4BC4-BE55-0E20FBF9859D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3408-DEF1-4BDE-BCCD-503638535C49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F3A-3A4C-461B-A89B-612FD03B129B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DF7-DE6E-4196-8AC5-65106823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AE02-19FF-4896-A6AB-F9EC0CE5A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FF2-F0A6-468F-8DC6-4FAB69BA6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A3F9-5991-4149-930B-DCFAB80D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59D-5325-4C4C-A8F6-F38860C1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4DE-8C6C-4E34-8595-F20B4EFE5DEB}" type="datetime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5A3E-85A4-44D5-810F-144C2512DDA1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1B70-0DBF-4930-BA58-D0C37A00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304-5349-4775-AD4C-F220B0C8A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1B32-479A-4315-A492-7D33C549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C34-2823-46D4-9B3C-D7821648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2402-07E6-42E9-9547-8B27AE998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3A48-53E9-49E8-93F7-B30788CD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2175-0E56-4B51-8717-3F0888965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52A3-E9C2-42EE-AD90-A1271CF8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CB78-36C8-46B6-B5C5-DDE824152E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C7AB-603A-49E0-85DB-D220EB92630B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B7A-7418-4747-B2B6-9F3832FA0ED9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57A8-8454-4F90-BB18-441B94944674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868A-7B49-4DD4-82E5-910481CCC7A9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A9C5-967B-477F-9D0A-AFFB74744B91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D8F-FBC8-4109-9B88-01F6766BE283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779-9BEE-4FBE-A300-808F9B7D1A85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A44-9067-43D8-B6DA-ADEDC87AE534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60FE-D5D9-43C5-9386-C06380F01DF5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CFDD-9D2C-45D2-965B-4583BD57A7A1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85480" y="155700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c000"/>
                </a:solidFill>
                <a:latin typeface="Tahoma"/>
                <a:cs typeface="Tahoma"/>
              </a:rPr>
              <a:t>การรู้จำแบบ</a:t>
            </a:r>
            <a:br>
              <a:rPr sz="3000"/>
            </a:br>
            <a:r>
              <a:rPr b="0" lang="en-US" sz="3200" spc="-1" strike="noStrike">
                <a:solidFill>
                  <a:srgbClr val="ff8600"/>
                </a:solidFill>
                <a:latin typeface="Arial"/>
              </a:rPr>
              <a:t>Pattern Recognition</a:t>
            </a:r>
            <a:br>
              <a:rPr sz="3000"/>
            </a:b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2555640" y="4149720"/>
            <a:ext cx="629892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ผู้สอ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ดร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ไพชยนต์ คงไช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2"/>
          <p:cNvSpPr/>
          <p:nvPr/>
        </p:nvSpPr>
        <p:spPr>
          <a:xfrm>
            <a:off x="179280" y="23760"/>
            <a:ext cx="8569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c000"/>
                </a:solidFill>
                <a:latin typeface="Tahoma"/>
                <a:ea typeface="Tahoma"/>
              </a:rPr>
              <a:t>Support Vector Machin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9" name="Picture 2" descr="ผลการค้นหารูปภาพสำหรับ blackbox"/>
          <p:cNvPicPr/>
          <p:nvPr/>
        </p:nvPicPr>
        <p:blipFill>
          <a:blip r:embed="rId1"/>
          <a:stretch/>
        </p:blipFill>
        <p:spPr>
          <a:xfrm>
            <a:off x="1476360" y="2421000"/>
            <a:ext cx="52624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60C1-6ACC-4B21-BE50-2521EB89005F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8"/>
          <p:cNvSpPr/>
          <p:nvPr/>
        </p:nvSpPr>
        <p:spPr>
          <a:xfrm>
            <a:off x="457200" y="1773360"/>
            <a:ext cx="8435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ซัพพอร์ตเวกเตอร์แมชชีน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(Support Vector Machine) (Cortes and Vapnik, 1995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ป็นอัลกอริทึมที่ใช้ในการจำแนกประเภทข้อมูลในแต่ละคลาสที่ได้รับความนิยมมาก เนื่องจากความสามารถในการจำแนกประเภทข้อมูลในแต่ละคลาสมีความ</a:t>
            </a:r>
            <a:r>
              <a:rPr b="0" lang="th-TH" sz="3200" spc="-1" strike="noStrike">
                <a:solidFill>
                  <a:srgbClr val="ff0000"/>
                </a:solidFill>
                <a:latin typeface="Angsana New"/>
                <a:cs typeface="Angsana New"/>
              </a:rPr>
              <a:t>แม่นยำสูง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โดยหลักการสำคัญของอัลกอริทึมซัพพอร์ตเวกเตอร์แมชชีนคือการ</a:t>
            </a:r>
            <a:r>
              <a:rPr b="0" lang="th-TH" sz="3200" spc="-1" strike="noStrike">
                <a:solidFill>
                  <a:srgbClr val="ff0000"/>
                </a:solidFill>
                <a:latin typeface="Angsana New"/>
                <a:cs typeface="Angsana New"/>
              </a:rPr>
              <a:t>สร้างเส้นแบ่ง </a:t>
            </a:r>
            <a:r>
              <a:rPr b="0" lang="en-US" sz="3200" spc="-1" strike="noStrike">
                <a:solidFill>
                  <a:srgbClr val="ff0000"/>
                </a:solidFill>
                <a:latin typeface="Angsana New"/>
                <a:ea typeface="Angsana New"/>
              </a:rPr>
              <a:t>(Hyper plane) </a:t>
            </a:r>
            <a:r>
              <a:rPr b="0" lang="th-TH" sz="3200" spc="-1" strike="noStrike">
                <a:solidFill>
                  <a:srgbClr val="ff0000"/>
                </a:solidFill>
                <a:latin typeface="Angsana New"/>
                <a:cs typeface="Angsana New"/>
              </a:rPr>
              <a:t>เพื่อแบ่งแยกประเภทข้อมูลออกจากกั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ABD0-4C10-4347-970F-2DE08C23D0D1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7" name="Group 38"/>
          <p:cNvGrpSpPr/>
          <p:nvPr/>
        </p:nvGrpSpPr>
        <p:grpSpPr>
          <a:xfrm>
            <a:off x="1187280" y="1773360"/>
            <a:ext cx="6913800" cy="3456000"/>
            <a:chOff x="1187280" y="1773360"/>
            <a:chExt cx="6913800" cy="3456000"/>
          </a:xfrm>
        </p:grpSpPr>
        <p:grpSp>
          <p:nvGrpSpPr>
            <p:cNvPr id="1218" name="Canvas 316"/>
            <p:cNvGrpSpPr/>
            <p:nvPr/>
          </p:nvGrpSpPr>
          <p:grpSpPr>
            <a:xfrm>
              <a:off x="1187280" y="1773360"/>
              <a:ext cx="6913800" cy="3456000"/>
              <a:chOff x="1187280" y="1773360"/>
              <a:chExt cx="6913800" cy="3456000"/>
            </a:xfrm>
          </p:grpSpPr>
          <p:sp>
            <p:nvSpPr>
              <p:cNvPr id="1219" name="AutoShape 29"/>
              <p:cNvSpPr/>
              <p:nvPr/>
            </p:nvSpPr>
            <p:spPr>
              <a:xfrm flipV="1">
                <a:off x="1187280" y="1773000"/>
                <a:ext cx="6913800" cy="345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28"/>
              <p:cNvSpPr/>
              <p:nvPr/>
            </p:nvSpPr>
            <p:spPr>
              <a:xfrm flipV="1">
                <a:off x="2713680" y="1853640"/>
                <a:ext cx="3443400" cy="328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สามเหลี่ยมหน้าจั่ว 318"/>
              <p:cNvSpPr/>
              <p:nvPr/>
            </p:nvSpPr>
            <p:spPr>
              <a:xfrm flipV="1">
                <a:off x="2712600" y="2889000"/>
                <a:ext cx="237240" cy="189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สามเหลี่ยมหน้าจั่ว 324"/>
              <p:cNvSpPr/>
              <p:nvPr/>
            </p:nvSpPr>
            <p:spPr>
              <a:xfrm flipV="1">
                <a:off x="3560400" y="219888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สามเหลี่ยมหน้าจั่ว 325"/>
              <p:cNvSpPr/>
              <p:nvPr/>
            </p:nvSpPr>
            <p:spPr>
              <a:xfrm flipV="1">
                <a:off x="2713680" y="213696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สามเหลี่ยมหน้าจั่ว 326"/>
              <p:cNvSpPr/>
              <p:nvPr/>
            </p:nvSpPr>
            <p:spPr>
              <a:xfrm flipV="1">
                <a:off x="1797840" y="251460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สามเหลี่ยมหน้าจั่ว 327"/>
              <p:cNvSpPr/>
              <p:nvPr/>
            </p:nvSpPr>
            <p:spPr>
              <a:xfrm flipV="1">
                <a:off x="2034360" y="350100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สามเหลี่ยมหน้าจั่ว 328"/>
              <p:cNvSpPr/>
              <p:nvPr/>
            </p:nvSpPr>
            <p:spPr>
              <a:xfrm flipV="1">
                <a:off x="1918080" y="194832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สี่เหลี่ยมผืนผ้า 161"/>
              <p:cNvSpPr/>
              <p:nvPr/>
            </p:nvSpPr>
            <p:spPr>
              <a:xfrm flipV="1">
                <a:off x="5090040" y="4705200"/>
                <a:ext cx="237600" cy="19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สี่เหลี่ยมผืนผ้า 329"/>
              <p:cNvSpPr/>
              <p:nvPr/>
            </p:nvSpPr>
            <p:spPr>
              <a:xfrm flipV="1">
                <a:off x="6157440" y="3772080"/>
                <a:ext cx="237600" cy="19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สี่เหลี่ยมผืนผ้า 330"/>
              <p:cNvSpPr/>
              <p:nvPr/>
            </p:nvSpPr>
            <p:spPr>
              <a:xfrm flipV="1">
                <a:off x="6252840" y="4761360"/>
                <a:ext cx="237600" cy="19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สี่เหลี่ยมผืนผ้า 331"/>
              <p:cNvSpPr/>
              <p:nvPr/>
            </p:nvSpPr>
            <p:spPr>
              <a:xfrm flipV="1">
                <a:off x="7346520" y="4087440"/>
                <a:ext cx="237600" cy="19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สี่เหลี่ยมผืนผ้า 332"/>
              <p:cNvSpPr/>
              <p:nvPr/>
            </p:nvSpPr>
            <p:spPr>
              <a:xfrm flipV="1">
                <a:off x="7346520" y="3300480"/>
                <a:ext cx="237600" cy="19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2" name="Straight Connector 35"/>
            <p:cNvSpPr/>
            <p:nvPr/>
          </p:nvSpPr>
          <p:spPr>
            <a:xfrm flipV="1">
              <a:off x="2644560" y="1868040"/>
              <a:ext cx="3513240" cy="3310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997E-C16C-4373-A087-05C6411DB5BC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6" name="Canvas 316"/>
          <p:cNvGrpSpPr/>
          <p:nvPr/>
        </p:nvGrpSpPr>
        <p:grpSpPr>
          <a:xfrm>
            <a:off x="1187280" y="1773360"/>
            <a:ext cx="6913800" cy="3456000"/>
            <a:chOff x="1187280" y="1773360"/>
            <a:chExt cx="6913800" cy="3456000"/>
          </a:xfrm>
        </p:grpSpPr>
        <p:sp>
          <p:nvSpPr>
            <p:cNvPr id="1237" name="AutoShape 29"/>
            <p:cNvSpPr/>
            <p:nvPr/>
          </p:nvSpPr>
          <p:spPr>
            <a:xfrm flipV="1">
              <a:off x="1187280" y="1773000"/>
              <a:ext cx="6913800" cy="34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28"/>
            <p:cNvSpPr/>
            <p:nvPr/>
          </p:nvSpPr>
          <p:spPr>
            <a:xfrm flipV="1">
              <a:off x="2713680" y="1853640"/>
              <a:ext cx="3443400" cy="3286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สามเหลี่ยมหน้าจั่ว 318"/>
            <p:cNvSpPr/>
            <p:nvPr/>
          </p:nvSpPr>
          <p:spPr>
            <a:xfrm flipV="1">
              <a:off x="2712600" y="2889000"/>
              <a:ext cx="237240" cy="18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สามเหลี่ยมหน้าจั่ว 324"/>
            <p:cNvSpPr/>
            <p:nvPr/>
          </p:nvSpPr>
          <p:spPr>
            <a:xfrm flipV="1">
              <a:off x="3560400" y="219888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สามเหลี่ยมหน้าจั่ว 325"/>
            <p:cNvSpPr/>
            <p:nvPr/>
          </p:nvSpPr>
          <p:spPr>
            <a:xfrm flipV="1">
              <a:off x="2713680" y="213696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สามเหลี่ยมหน้าจั่ว 326"/>
            <p:cNvSpPr/>
            <p:nvPr/>
          </p:nvSpPr>
          <p:spPr>
            <a:xfrm flipV="1">
              <a:off x="1797840" y="251460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สามเหลี่ยมหน้าจั่ว 327"/>
            <p:cNvSpPr/>
            <p:nvPr/>
          </p:nvSpPr>
          <p:spPr>
            <a:xfrm flipV="1">
              <a:off x="2034360" y="350100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สามเหลี่ยมหน้าจั่ว 328"/>
            <p:cNvSpPr/>
            <p:nvPr/>
          </p:nvSpPr>
          <p:spPr>
            <a:xfrm flipV="1">
              <a:off x="1918080" y="194832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สี่เหลี่ยมผืนผ้า 161"/>
            <p:cNvSpPr/>
            <p:nvPr/>
          </p:nvSpPr>
          <p:spPr>
            <a:xfrm flipV="1">
              <a:off x="5090040" y="4705200"/>
              <a:ext cx="237600" cy="19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สี่เหลี่ยมผืนผ้า 329"/>
            <p:cNvSpPr/>
            <p:nvPr/>
          </p:nvSpPr>
          <p:spPr>
            <a:xfrm flipV="1">
              <a:off x="6157440" y="3772080"/>
              <a:ext cx="237600" cy="19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สี่เหลี่ยมผืนผ้า 330"/>
            <p:cNvSpPr/>
            <p:nvPr/>
          </p:nvSpPr>
          <p:spPr>
            <a:xfrm flipV="1">
              <a:off x="6252840" y="4761360"/>
              <a:ext cx="237600" cy="19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สี่เหลี่ยมผืนผ้า 331"/>
            <p:cNvSpPr/>
            <p:nvPr/>
          </p:nvSpPr>
          <p:spPr>
            <a:xfrm flipV="1">
              <a:off x="7346520" y="4087440"/>
              <a:ext cx="237600" cy="19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สี่เหลี่ยมผืนผ้า 332"/>
            <p:cNvSpPr/>
            <p:nvPr/>
          </p:nvSpPr>
          <p:spPr>
            <a:xfrm flipV="1">
              <a:off x="7346520" y="3300480"/>
              <a:ext cx="237600" cy="19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0" name="Rectangle 33"/>
          <p:cNvSpPr/>
          <p:nvPr/>
        </p:nvSpPr>
        <p:spPr>
          <a:xfrm>
            <a:off x="1619280" y="548496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Calibri"/>
              </a:rPr>
              <a:t>เส้นแบ่ง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(Hyperplane)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เพื่อแบ่งแยกข้อมูลออกเป็น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กลุ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8279-030D-45D6-B7ED-6273E7A499EB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33"/>
          <p:cNvSpPr/>
          <p:nvPr/>
        </p:nvSpPr>
        <p:spPr>
          <a:xfrm>
            <a:off x="1619280" y="548496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Calibri"/>
              </a:rPr>
              <a:t>เส้นแบ่ง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(Hyperplane)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เพื่อแบ่งแยกข้อมูลออกเป็น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กลุ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Canvas 187"/>
          <p:cNvGrpSpPr/>
          <p:nvPr/>
        </p:nvGrpSpPr>
        <p:grpSpPr>
          <a:xfrm>
            <a:off x="900000" y="1628640"/>
            <a:ext cx="7488360" cy="3600720"/>
            <a:chOff x="900000" y="1628640"/>
            <a:chExt cx="7488360" cy="3600720"/>
          </a:xfrm>
        </p:grpSpPr>
        <p:sp>
          <p:nvSpPr>
            <p:cNvPr id="1256" name="AutoShape 21"/>
            <p:cNvSpPr/>
            <p:nvPr/>
          </p:nvSpPr>
          <p:spPr>
            <a:xfrm>
              <a:off x="900000" y="1628640"/>
              <a:ext cx="7488360" cy="360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Line 20"/>
            <p:cNvSpPr/>
            <p:nvPr/>
          </p:nvSpPr>
          <p:spPr>
            <a:xfrm>
              <a:off x="983880" y="2265480"/>
              <a:ext cx="6465600" cy="2891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สามเหลี่ยมหน้าจั่ว 176"/>
            <p:cNvSpPr/>
            <p:nvPr/>
          </p:nvSpPr>
          <p:spPr>
            <a:xfrm>
              <a:off x="3059280" y="3915720"/>
              <a:ext cx="335880" cy="20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สามเหลี่ยมหน้าจั่ว 177"/>
            <p:cNvSpPr/>
            <p:nvPr/>
          </p:nvSpPr>
          <p:spPr>
            <a:xfrm>
              <a:off x="4259880" y="4657320"/>
              <a:ext cx="33480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สามเหลี่ยมหน้าจั่ว 178"/>
            <p:cNvSpPr/>
            <p:nvPr/>
          </p:nvSpPr>
          <p:spPr>
            <a:xfrm>
              <a:off x="3061080" y="4723560"/>
              <a:ext cx="33444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สามเหลี่ยมหน้าจั่ว 179"/>
            <p:cNvSpPr/>
            <p:nvPr/>
          </p:nvSpPr>
          <p:spPr>
            <a:xfrm>
              <a:off x="1764360" y="4318200"/>
              <a:ext cx="33480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สามเหลี่ยมหน้าจั่ว 180"/>
            <p:cNvSpPr/>
            <p:nvPr/>
          </p:nvSpPr>
          <p:spPr>
            <a:xfrm>
              <a:off x="2099160" y="3259440"/>
              <a:ext cx="334440" cy="202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สามเหลี่ยมหน้าจั่ว 181"/>
            <p:cNvSpPr/>
            <p:nvPr/>
          </p:nvSpPr>
          <p:spPr>
            <a:xfrm>
              <a:off x="1934640" y="4926240"/>
              <a:ext cx="33480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สี่เหลี่ยมผืนผ้า 182"/>
            <p:cNvSpPr/>
            <p:nvPr/>
          </p:nvSpPr>
          <p:spPr>
            <a:xfrm>
              <a:off x="4152960" y="195120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สี่เหลี่ยมผืนผ้า 183"/>
            <p:cNvSpPr/>
            <p:nvPr/>
          </p:nvSpPr>
          <p:spPr>
            <a:xfrm>
              <a:off x="5099400" y="2774160"/>
              <a:ext cx="33660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สี่เหลี่ยมผืนผ้า 184"/>
            <p:cNvSpPr/>
            <p:nvPr/>
          </p:nvSpPr>
          <p:spPr>
            <a:xfrm>
              <a:off x="5832000" y="184968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สี่เหลี่ยมผืนผ้า 185"/>
            <p:cNvSpPr/>
            <p:nvPr/>
          </p:nvSpPr>
          <p:spPr>
            <a:xfrm>
              <a:off x="7090560" y="226548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สี่เหลี่ยมผืนผ้า 186"/>
            <p:cNvSpPr/>
            <p:nvPr/>
          </p:nvSpPr>
          <p:spPr>
            <a:xfrm>
              <a:off x="6613920" y="365724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Line 8"/>
            <p:cNvSpPr/>
            <p:nvPr/>
          </p:nvSpPr>
          <p:spPr>
            <a:xfrm>
              <a:off x="3732480" y="1701000"/>
              <a:ext cx="1703160" cy="3528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7"/>
            <p:cNvSpPr/>
            <p:nvPr/>
          </p:nvSpPr>
          <p:spPr>
            <a:xfrm>
              <a:off x="1934640" y="1628640"/>
              <a:ext cx="4378320" cy="350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Text Box 350"/>
            <p:cNvSpPr/>
            <p:nvPr/>
          </p:nvSpPr>
          <p:spPr>
            <a:xfrm>
              <a:off x="983880" y="2139840"/>
              <a:ext cx="67032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ngsana New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Text Box 350"/>
            <p:cNvSpPr/>
            <p:nvPr/>
          </p:nvSpPr>
          <p:spPr>
            <a:xfrm>
              <a:off x="2350800" y="1743840"/>
              <a:ext cx="66924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Text Box 350"/>
            <p:cNvSpPr/>
            <p:nvPr/>
          </p:nvSpPr>
          <p:spPr>
            <a:xfrm>
              <a:off x="3590280" y="1628640"/>
              <a:ext cx="66924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4" name="Oval 38"/>
          <p:cNvSpPr/>
          <p:nvPr/>
        </p:nvSpPr>
        <p:spPr>
          <a:xfrm>
            <a:off x="1332000" y="1222200"/>
            <a:ext cx="1511280" cy="5223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41"/>
          <p:cNvSpPr/>
          <p:nvPr/>
        </p:nvSpPr>
        <p:spPr>
          <a:xfrm>
            <a:off x="3132000" y="1108080"/>
            <a:ext cx="1511280" cy="5205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42"/>
          <p:cNvSpPr/>
          <p:nvPr/>
        </p:nvSpPr>
        <p:spPr>
          <a:xfrm>
            <a:off x="268200" y="2496960"/>
            <a:ext cx="1511280" cy="5209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6E39-7EB0-471C-ACB6-810692FCA85B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33"/>
          <p:cNvSpPr/>
          <p:nvPr/>
        </p:nvSpPr>
        <p:spPr>
          <a:xfrm>
            <a:off x="1619280" y="548496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Calibri"/>
              </a:rPr>
              <a:t>เส้นแบ่ง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(Hyperplane)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เพื่อแบ่งแยกข้อมูลออกเป็น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กลุ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41"/>
          <p:cNvSpPr/>
          <p:nvPr/>
        </p:nvSpPr>
        <p:spPr>
          <a:xfrm>
            <a:off x="2871720" y="1407960"/>
            <a:ext cx="1513080" cy="5223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2" name="Canvas 347"/>
          <p:cNvGrpSpPr/>
          <p:nvPr/>
        </p:nvGrpSpPr>
        <p:grpSpPr>
          <a:xfrm>
            <a:off x="826920" y="1928880"/>
            <a:ext cx="7274160" cy="2997000"/>
            <a:chOff x="826920" y="1928880"/>
            <a:chExt cx="7274160" cy="2997000"/>
          </a:xfrm>
        </p:grpSpPr>
        <p:sp>
          <p:nvSpPr>
            <p:cNvPr id="1283" name="AutoShape 16"/>
            <p:cNvSpPr/>
            <p:nvPr/>
          </p:nvSpPr>
          <p:spPr>
            <a:xfrm>
              <a:off x="826920" y="1928880"/>
              <a:ext cx="7274160" cy="299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สามเหลี่ยมหน้าจั่ว 189"/>
            <p:cNvSpPr/>
            <p:nvPr/>
          </p:nvSpPr>
          <p:spPr>
            <a:xfrm>
              <a:off x="2924640" y="3832560"/>
              <a:ext cx="326160" cy="16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สามเหลี่ยมหน้าจั่ว 335"/>
            <p:cNvSpPr/>
            <p:nvPr/>
          </p:nvSpPr>
          <p:spPr>
            <a:xfrm>
              <a:off x="4090680" y="4449600"/>
              <a:ext cx="325080" cy="168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สามเหลี่ยมหน้าจั่ว 336"/>
            <p:cNvSpPr/>
            <p:nvPr/>
          </p:nvSpPr>
          <p:spPr>
            <a:xfrm>
              <a:off x="2926080" y="4505040"/>
              <a:ext cx="32472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สามเหลี่ยมหน้าจั่ว 337"/>
            <p:cNvSpPr/>
            <p:nvPr/>
          </p:nvSpPr>
          <p:spPr>
            <a:xfrm>
              <a:off x="1666440" y="4167360"/>
              <a:ext cx="32508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สามเหลี่ยมหน้าจั่ว 338"/>
            <p:cNvSpPr/>
            <p:nvPr/>
          </p:nvSpPr>
          <p:spPr>
            <a:xfrm>
              <a:off x="1991880" y="3286440"/>
              <a:ext cx="32472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สามเหลี่ยมหน้าจั่ว 339"/>
            <p:cNvSpPr/>
            <p:nvPr/>
          </p:nvSpPr>
          <p:spPr>
            <a:xfrm>
              <a:off x="1832040" y="4673880"/>
              <a:ext cx="32508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สี่เหลี่ยมผืนผ้า 340"/>
            <p:cNvSpPr/>
            <p:nvPr/>
          </p:nvSpPr>
          <p:spPr>
            <a:xfrm>
              <a:off x="3987000" y="219708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สี่เหลี่ยมผืนผ้า 341"/>
            <p:cNvSpPr/>
            <p:nvPr/>
          </p:nvSpPr>
          <p:spPr>
            <a:xfrm>
              <a:off x="4906440" y="288216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สี่เหลี่ยมผืนผ้า 342"/>
            <p:cNvSpPr/>
            <p:nvPr/>
          </p:nvSpPr>
          <p:spPr>
            <a:xfrm>
              <a:off x="5618160" y="211284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สี่เหลี่ยมผืนผ้า 343"/>
            <p:cNvSpPr/>
            <p:nvPr/>
          </p:nvSpPr>
          <p:spPr>
            <a:xfrm>
              <a:off x="6840720" y="245880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สี่เหลี่ยมผืนผ้า 344"/>
            <p:cNvSpPr/>
            <p:nvPr/>
          </p:nvSpPr>
          <p:spPr>
            <a:xfrm>
              <a:off x="6377400" y="361728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4"/>
            <p:cNvSpPr/>
            <p:nvPr/>
          </p:nvSpPr>
          <p:spPr>
            <a:xfrm>
              <a:off x="3578400" y="1989000"/>
              <a:ext cx="1654560" cy="2936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สี่เหลี่ยมผืนผ้า 348"/>
            <p:cNvSpPr/>
            <p:nvPr/>
          </p:nvSpPr>
          <p:spPr>
            <a:xfrm>
              <a:off x="3250800" y="211284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สี่เหลี่ยมผืนผ้า 349"/>
            <p:cNvSpPr/>
            <p:nvPr/>
          </p:nvSpPr>
          <p:spPr>
            <a:xfrm>
              <a:off x="2807640" y="204264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2619-0A4A-4670-A5EF-F4D792A92284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33"/>
          <p:cNvSpPr/>
          <p:nvPr/>
        </p:nvSpPr>
        <p:spPr>
          <a:xfrm>
            <a:off x="1619280" y="610884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Angsana New"/>
              </a:rPr>
              <a:t>เส้นแบ่งข้อมูลที่มีระยะห่างระหว่างข้อมูลมากที่สุ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2" name="Picture 45" descr=""/>
          <p:cNvPicPr/>
          <p:nvPr/>
        </p:nvPicPr>
        <p:blipFill>
          <a:blip r:embed="rId1"/>
          <a:stretch/>
        </p:blipFill>
        <p:spPr>
          <a:xfrm>
            <a:off x="1109520" y="1217520"/>
            <a:ext cx="65106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F2B-7E9A-443C-999F-78212152A9E3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1"/>
          <p:cNvSpPr/>
          <p:nvPr/>
        </p:nvSpPr>
        <p:spPr>
          <a:xfrm>
            <a:off x="179280" y="1268280"/>
            <a:ext cx="87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alibri"/>
                <a:ea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Calibri"/>
                <a:cs typeface="Angsana New"/>
              </a:rPr>
              <a:t>เส้นแบ่งนั้นจะทำการแบ่งข้อมูลทั้งสองคลาสออกจากกันด้วยระยะห่างระหว่างข้อมูลทั้งสองคลาสมากที่สุด และมีเวกเตอร์ถ่วงน้ำหนัก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w (Weight Vector)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ป็นตัวกำหนดทิศทางและความเอียงของไฮเปอร์เพลน ซึ่งเวกเตอร์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w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ะตั้งฉากกับเส้นแบ่ง และข้อมูลจะถูกแปลงให้อยู่ในรูปแบบเวกเตอร์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x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่วน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y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ะเป็นตัวกำหนดว่าข้อมูลจุดนั้นจะเป็นคลาส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รือคลาส 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-1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โดยสามารถเขียนเป็นสมการได้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7" name="Rectangle 2" descr=""/>
          <p:cNvPicPr/>
          <p:nvPr/>
        </p:nvPicPr>
        <p:blipFill>
          <a:blip r:embed="rId1"/>
          <a:stretch/>
        </p:blipFill>
        <p:spPr>
          <a:xfrm>
            <a:off x="2286000" y="3713040"/>
            <a:ext cx="4572000" cy="1389240"/>
          </a:xfrm>
          <a:prstGeom prst="rect">
            <a:avLst/>
          </a:prstGeom>
          <a:ln w="0">
            <a:noFill/>
          </a:ln>
        </p:spPr>
      </p:pic>
      <p:sp>
        <p:nvSpPr>
          <p:cNvPr id="1308" name="Rectangle 3"/>
          <p:cNvSpPr/>
          <p:nvPr/>
        </p:nvSpPr>
        <p:spPr>
          <a:xfrm>
            <a:off x="684360" y="5105520"/>
            <a:ext cx="71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alibri"/>
                <a:cs typeface="Angsana New"/>
              </a:rPr>
              <a:t>เมื่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w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ือเวกเตอร์ถ่วงน้ำหนัก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(Weight V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b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ือค่าไบแอส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(Bia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25BC-F7DF-4E3B-96C2-1F526DE3B81F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1"/>
          <p:cNvSpPr/>
          <p:nvPr/>
        </p:nvSpPr>
        <p:spPr>
          <a:xfrm>
            <a:off x="179280" y="126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Calibri"/>
                <a:ea typeface="Cordia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VM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มีการใช้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kernel function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เพื่อทำการแปลงข้อมูลที่ไม่สามารถใช้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inear model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ไปอยู่มิติ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(Dimension)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ที่สูง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3" name="Table 4" descr=""/>
          <p:cNvPicPr/>
          <p:nvPr/>
        </p:nvPicPr>
        <p:blipFill>
          <a:blip r:embed="rId1"/>
          <a:stretch/>
        </p:blipFill>
        <p:spPr>
          <a:xfrm>
            <a:off x="438120" y="2597040"/>
            <a:ext cx="82551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2C8E-02F6-46C3-ABB2-198D05AEFA6B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610920" y="1112400"/>
            <a:ext cx="8232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พารามิเตอร์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 </a:t>
            </a: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หรือ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8" name="Rectangle 10"/>
          <p:cNvSpPr/>
          <p:nvPr/>
        </p:nvSpPr>
        <p:spPr>
          <a:xfrm>
            <a:off x="915840" y="2103480"/>
            <a:ext cx="335304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11"/>
          <p:cNvSpPr/>
          <p:nvPr/>
        </p:nvSpPr>
        <p:spPr>
          <a:xfrm>
            <a:off x="5191200" y="2106720"/>
            <a:ext cx="3352680" cy="213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Box 12"/>
          <p:cNvSpPr/>
          <p:nvPr/>
        </p:nvSpPr>
        <p:spPr>
          <a:xfrm>
            <a:off x="2058840" y="53038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C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น้อย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Box 13"/>
          <p:cNvSpPr/>
          <p:nvPr/>
        </p:nvSpPr>
        <p:spPr>
          <a:xfrm>
            <a:off x="6249960" y="530388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C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มาก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Oval 14"/>
          <p:cNvSpPr/>
          <p:nvPr/>
        </p:nvSpPr>
        <p:spPr>
          <a:xfrm>
            <a:off x="1471680" y="278928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Oval 15"/>
          <p:cNvSpPr/>
          <p:nvPr/>
        </p:nvSpPr>
        <p:spPr>
          <a:xfrm>
            <a:off x="1400040" y="321300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Oval 16"/>
          <p:cNvSpPr/>
          <p:nvPr/>
        </p:nvSpPr>
        <p:spPr>
          <a:xfrm>
            <a:off x="1000080" y="318456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Oval 17"/>
          <p:cNvSpPr/>
          <p:nvPr/>
        </p:nvSpPr>
        <p:spPr>
          <a:xfrm>
            <a:off x="1738440" y="36306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Oval 18"/>
          <p:cNvSpPr/>
          <p:nvPr/>
        </p:nvSpPr>
        <p:spPr>
          <a:xfrm>
            <a:off x="1239840" y="38084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Oval 19"/>
          <p:cNvSpPr/>
          <p:nvPr/>
        </p:nvSpPr>
        <p:spPr>
          <a:xfrm>
            <a:off x="1447920" y="349560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Oval 20"/>
          <p:cNvSpPr/>
          <p:nvPr/>
        </p:nvSpPr>
        <p:spPr>
          <a:xfrm>
            <a:off x="1008000" y="40323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Oval 21"/>
          <p:cNvSpPr/>
          <p:nvPr/>
        </p:nvSpPr>
        <p:spPr>
          <a:xfrm>
            <a:off x="1920960" y="307656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Oval 22"/>
          <p:cNvSpPr/>
          <p:nvPr/>
        </p:nvSpPr>
        <p:spPr>
          <a:xfrm>
            <a:off x="2255760" y="363060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Oval 23"/>
          <p:cNvSpPr/>
          <p:nvPr/>
        </p:nvSpPr>
        <p:spPr>
          <a:xfrm>
            <a:off x="1822320" y="4008600"/>
            <a:ext cx="16380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Oval 24"/>
          <p:cNvSpPr/>
          <p:nvPr/>
        </p:nvSpPr>
        <p:spPr>
          <a:xfrm>
            <a:off x="1389240" y="40086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Oval 25"/>
          <p:cNvSpPr/>
          <p:nvPr/>
        </p:nvSpPr>
        <p:spPr>
          <a:xfrm>
            <a:off x="1636560" y="38084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Oval 26"/>
          <p:cNvSpPr/>
          <p:nvPr/>
        </p:nvSpPr>
        <p:spPr>
          <a:xfrm>
            <a:off x="1000080" y="364824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Oval 27"/>
          <p:cNvSpPr/>
          <p:nvPr/>
        </p:nvSpPr>
        <p:spPr>
          <a:xfrm>
            <a:off x="1179360" y="345744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Isosceles Triangle 28"/>
          <p:cNvSpPr/>
          <p:nvPr/>
        </p:nvSpPr>
        <p:spPr>
          <a:xfrm>
            <a:off x="2592360" y="2179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Isosceles Triangle 29"/>
          <p:cNvSpPr/>
          <p:nvPr/>
        </p:nvSpPr>
        <p:spPr>
          <a:xfrm>
            <a:off x="2787480" y="2625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Isosceles Triangle 30"/>
          <p:cNvSpPr/>
          <p:nvPr/>
        </p:nvSpPr>
        <p:spPr>
          <a:xfrm>
            <a:off x="3179880" y="27129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Isosceles Triangle 31"/>
          <p:cNvSpPr/>
          <p:nvPr/>
        </p:nvSpPr>
        <p:spPr>
          <a:xfrm>
            <a:off x="3697200" y="22176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Isosceles Triangle 32"/>
          <p:cNvSpPr/>
          <p:nvPr/>
        </p:nvSpPr>
        <p:spPr>
          <a:xfrm>
            <a:off x="3209760" y="2293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Isosceles Triangle 34"/>
          <p:cNvSpPr/>
          <p:nvPr/>
        </p:nvSpPr>
        <p:spPr>
          <a:xfrm>
            <a:off x="3882960" y="2484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Isosceles Triangle 35"/>
          <p:cNvSpPr/>
          <p:nvPr/>
        </p:nvSpPr>
        <p:spPr>
          <a:xfrm>
            <a:off x="3459240" y="25542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Isosceles Triangle 36"/>
          <p:cNvSpPr/>
          <p:nvPr/>
        </p:nvSpPr>
        <p:spPr>
          <a:xfrm>
            <a:off x="3354480" y="2944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Isosceles Triangle 37"/>
          <p:cNvSpPr/>
          <p:nvPr/>
        </p:nvSpPr>
        <p:spPr>
          <a:xfrm>
            <a:off x="3780000" y="2979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Isosceles Triangle 38"/>
          <p:cNvSpPr/>
          <p:nvPr/>
        </p:nvSpPr>
        <p:spPr>
          <a:xfrm>
            <a:off x="3710160" y="320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Isosceles Triangle 39"/>
          <p:cNvSpPr/>
          <p:nvPr/>
        </p:nvSpPr>
        <p:spPr>
          <a:xfrm>
            <a:off x="2960640" y="31845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Isosceles Triangle 40"/>
          <p:cNvSpPr/>
          <p:nvPr/>
        </p:nvSpPr>
        <p:spPr>
          <a:xfrm>
            <a:off x="3062160" y="373212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Isosceles Triangle 41"/>
          <p:cNvSpPr/>
          <p:nvPr/>
        </p:nvSpPr>
        <p:spPr>
          <a:xfrm>
            <a:off x="3400560" y="3316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Isosceles Triangle 42"/>
          <p:cNvSpPr/>
          <p:nvPr/>
        </p:nvSpPr>
        <p:spPr>
          <a:xfrm>
            <a:off x="3718080" y="3648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Isosceles Triangle 43"/>
          <p:cNvSpPr/>
          <p:nvPr/>
        </p:nvSpPr>
        <p:spPr>
          <a:xfrm>
            <a:off x="2481120" y="2511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Isosceles Triangle 44"/>
          <p:cNvSpPr/>
          <p:nvPr/>
        </p:nvSpPr>
        <p:spPr>
          <a:xfrm>
            <a:off x="2692440" y="34686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Oval 46"/>
          <p:cNvSpPr/>
          <p:nvPr/>
        </p:nvSpPr>
        <p:spPr>
          <a:xfrm>
            <a:off x="5745240" y="276552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Oval 47"/>
          <p:cNvSpPr/>
          <p:nvPr/>
        </p:nvSpPr>
        <p:spPr>
          <a:xfrm>
            <a:off x="5673600" y="31892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Oval 48"/>
          <p:cNvSpPr/>
          <p:nvPr/>
        </p:nvSpPr>
        <p:spPr>
          <a:xfrm>
            <a:off x="5272200" y="31608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Oval 49"/>
          <p:cNvSpPr/>
          <p:nvPr/>
        </p:nvSpPr>
        <p:spPr>
          <a:xfrm>
            <a:off x="6012000" y="360684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Oval 50"/>
          <p:cNvSpPr/>
          <p:nvPr/>
        </p:nvSpPr>
        <p:spPr>
          <a:xfrm>
            <a:off x="5513400" y="378612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Oval 51"/>
          <p:cNvSpPr/>
          <p:nvPr/>
        </p:nvSpPr>
        <p:spPr>
          <a:xfrm>
            <a:off x="5721480" y="347184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Oval 52"/>
          <p:cNvSpPr/>
          <p:nvPr/>
        </p:nvSpPr>
        <p:spPr>
          <a:xfrm>
            <a:off x="5281560" y="400860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Oval 53"/>
          <p:cNvSpPr/>
          <p:nvPr/>
        </p:nvSpPr>
        <p:spPr>
          <a:xfrm>
            <a:off x="6194520" y="30528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Oval 54"/>
          <p:cNvSpPr/>
          <p:nvPr/>
        </p:nvSpPr>
        <p:spPr>
          <a:xfrm>
            <a:off x="6529320" y="36068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Oval 55"/>
          <p:cNvSpPr/>
          <p:nvPr/>
        </p:nvSpPr>
        <p:spPr>
          <a:xfrm>
            <a:off x="6094440" y="398448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Oval 56"/>
          <p:cNvSpPr/>
          <p:nvPr/>
        </p:nvSpPr>
        <p:spPr>
          <a:xfrm>
            <a:off x="5662440" y="398448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Oval 57"/>
          <p:cNvSpPr/>
          <p:nvPr/>
        </p:nvSpPr>
        <p:spPr>
          <a:xfrm>
            <a:off x="5910120" y="3786120"/>
            <a:ext cx="16380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Oval 58"/>
          <p:cNvSpPr/>
          <p:nvPr/>
        </p:nvSpPr>
        <p:spPr>
          <a:xfrm>
            <a:off x="5272200" y="362412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Oval 59"/>
          <p:cNvSpPr/>
          <p:nvPr/>
        </p:nvSpPr>
        <p:spPr>
          <a:xfrm>
            <a:off x="5452920" y="3433680"/>
            <a:ext cx="16380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Isosceles Triangle 60"/>
          <p:cNvSpPr/>
          <p:nvPr/>
        </p:nvSpPr>
        <p:spPr>
          <a:xfrm>
            <a:off x="6865920" y="2155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Isosceles Triangle 61"/>
          <p:cNvSpPr/>
          <p:nvPr/>
        </p:nvSpPr>
        <p:spPr>
          <a:xfrm>
            <a:off x="7061040" y="2602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Isosceles Triangle 62"/>
          <p:cNvSpPr/>
          <p:nvPr/>
        </p:nvSpPr>
        <p:spPr>
          <a:xfrm>
            <a:off x="7453440" y="2689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Isosceles Triangle 63"/>
          <p:cNvSpPr/>
          <p:nvPr/>
        </p:nvSpPr>
        <p:spPr>
          <a:xfrm>
            <a:off x="7970760" y="21938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Isosceles Triangle 64"/>
          <p:cNvSpPr/>
          <p:nvPr/>
        </p:nvSpPr>
        <p:spPr>
          <a:xfrm>
            <a:off x="7483320" y="22701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Isosceles Triangle 65"/>
          <p:cNvSpPr/>
          <p:nvPr/>
        </p:nvSpPr>
        <p:spPr>
          <a:xfrm>
            <a:off x="8155080" y="24606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Isosceles Triangle 66"/>
          <p:cNvSpPr/>
          <p:nvPr/>
        </p:nvSpPr>
        <p:spPr>
          <a:xfrm>
            <a:off x="7732800" y="2532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Isosceles Triangle 67"/>
          <p:cNvSpPr/>
          <p:nvPr/>
        </p:nvSpPr>
        <p:spPr>
          <a:xfrm>
            <a:off x="7626240" y="29210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Isosceles Triangle 68"/>
          <p:cNvSpPr/>
          <p:nvPr/>
        </p:nvSpPr>
        <p:spPr>
          <a:xfrm>
            <a:off x="8053560" y="29559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Isosceles Triangle 69"/>
          <p:cNvSpPr/>
          <p:nvPr/>
        </p:nvSpPr>
        <p:spPr>
          <a:xfrm>
            <a:off x="7981920" y="31845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Isosceles Triangle 70"/>
          <p:cNvSpPr/>
          <p:nvPr/>
        </p:nvSpPr>
        <p:spPr>
          <a:xfrm>
            <a:off x="7232760" y="3160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Isosceles Triangle 71"/>
          <p:cNvSpPr/>
          <p:nvPr/>
        </p:nvSpPr>
        <p:spPr>
          <a:xfrm>
            <a:off x="7335720" y="37101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Isosceles Triangle 72"/>
          <p:cNvSpPr/>
          <p:nvPr/>
        </p:nvSpPr>
        <p:spPr>
          <a:xfrm>
            <a:off x="7674120" y="32940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Isosceles Triangle 73"/>
          <p:cNvSpPr/>
          <p:nvPr/>
        </p:nvSpPr>
        <p:spPr>
          <a:xfrm>
            <a:off x="7991640" y="362412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Isosceles Triangle 74"/>
          <p:cNvSpPr/>
          <p:nvPr/>
        </p:nvSpPr>
        <p:spPr>
          <a:xfrm>
            <a:off x="6754680" y="24890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Isosceles Triangle 75"/>
          <p:cNvSpPr/>
          <p:nvPr/>
        </p:nvSpPr>
        <p:spPr>
          <a:xfrm>
            <a:off x="6966000" y="34466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Straight Connector 76"/>
          <p:cNvSpPr/>
          <p:nvPr/>
        </p:nvSpPr>
        <p:spPr>
          <a:xfrm>
            <a:off x="932040" y="2484360"/>
            <a:ext cx="144288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Straight Connector 77"/>
          <p:cNvSpPr/>
          <p:nvPr/>
        </p:nvSpPr>
        <p:spPr>
          <a:xfrm>
            <a:off x="1957320" y="2100240"/>
            <a:ext cx="1730520" cy="213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Straight Connector 78"/>
          <p:cNvSpPr/>
          <p:nvPr/>
        </p:nvSpPr>
        <p:spPr>
          <a:xfrm>
            <a:off x="1295280" y="2100240"/>
            <a:ext cx="1754280" cy="2136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Straight Connector 79"/>
          <p:cNvSpPr/>
          <p:nvPr/>
        </p:nvSpPr>
        <p:spPr>
          <a:xfrm>
            <a:off x="5757840" y="2100240"/>
            <a:ext cx="1319400" cy="21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Straight Connector 80"/>
          <p:cNvSpPr/>
          <p:nvPr/>
        </p:nvSpPr>
        <p:spPr>
          <a:xfrm>
            <a:off x="5894280" y="2100240"/>
            <a:ext cx="1312920" cy="2149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Straight Connector 81"/>
          <p:cNvSpPr/>
          <p:nvPr/>
        </p:nvSpPr>
        <p:spPr>
          <a:xfrm>
            <a:off x="6021360" y="2103480"/>
            <a:ext cx="1319400" cy="21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chine learn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 prediction function to a feature representation of the image to get the desired outpu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f(    ) = “ap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f(    ) = “tomato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f(    ) = “cow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3" descr=""/>
          <p:cNvPicPr/>
          <p:nvPr/>
        </p:nvPicPr>
        <p:blipFill>
          <a:blip r:embed="rId2"/>
          <a:stretch/>
        </p:blipFill>
        <p:spPr>
          <a:xfrm>
            <a:off x="2895480" y="4572000"/>
            <a:ext cx="774720" cy="7491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3"/>
          <a:stretch/>
        </p:blipFill>
        <p:spPr>
          <a:xfrm>
            <a:off x="2895480" y="571500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1120" name="TextBox 6"/>
          <p:cNvSpPr/>
          <p:nvPr/>
        </p:nvSpPr>
        <p:spPr>
          <a:xfrm>
            <a:off x="7318800" y="6581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Slide credit: L. Lazebn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2EE-53FB-48B8-BE53-1F35BD6F4C30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1"/>
          <p:cNvSpPr/>
          <p:nvPr/>
        </p:nvSpPr>
        <p:spPr>
          <a:xfrm>
            <a:off x="179280" y="1268280"/>
            <a:ext cx="8785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ea typeface="Calibri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C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หน้าที่เป็นตัวควบคุมค่าใช้จ่ายในการจำแนกข้อมูลผิดคลาสในชุดข้อมูลฝึกสอน เนื่องจากอัลกอริทึมซัพพอร์ตเวกเตอร์แมชชีนจะทำการหาไฮเปอร์เพลนที่มีความกว้างของขอบระหว่างแต่ละคลาสมากที่สุด โดยจะเกิดการแลกเปลี่ยนระหว่างการหาขอบที่มีระยะห่างน้อยแต่ไม่มีความผิดพลาดในการจำแนกข้อมูลเลย หรืออาจจะมีการจำแนกข้อมูลผิดพลาดเพียงเล็กน้อย กับการหาขอบที่มีระยะห่างของขอบกว้างมากแต่แลกกับการจำแนกข้อมูลผิดพลาดมากขึ้น โดย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C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่าน้อยจะทำให้ความกว้างของขอบมีขนาดใหญ่ ทำให้โมเดลมีความยืดหยุ่นต่อข้อมูลในอนาคตสูง และ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C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่ามากจะส่งผลให้ความกว้างของขอบมีขนาดเล็ก อาจจะทำให้เกิดปัญหา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Over Fitting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12DF-DFA1-4F66-B8EE-D554CE2D3360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837720" y="1066320"/>
            <a:ext cx="8232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พารามิเตอร์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Epsilon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96" name="Rectangle 83"/>
          <p:cNvSpPr/>
          <p:nvPr/>
        </p:nvSpPr>
        <p:spPr>
          <a:xfrm>
            <a:off x="2362320" y="2057400"/>
            <a:ext cx="4876560" cy="312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Oval 84"/>
          <p:cNvSpPr/>
          <p:nvPr/>
        </p:nvSpPr>
        <p:spPr>
          <a:xfrm>
            <a:off x="3201840" y="3176640"/>
            <a:ext cx="16380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Oval 85"/>
          <p:cNvSpPr/>
          <p:nvPr/>
        </p:nvSpPr>
        <p:spPr>
          <a:xfrm>
            <a:off x="3714840" y="323532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Oval 86"/>
          <p:cNvSpPr/>
          <p:nvPr/>
        </p:nvSpPr>
        <p:spPr>
          <a:xfrm>
            <a:off x="2870280" y="275436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Oval 87"/>
          <p:cNvSpPr/>
          <p:nvPr/>
        </p:nvSpPr>
        <p:spPr>
          <a:xfrm>
            <a:off x="4181400" y="377352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Oval 88"/>
          <p:cNvSpPr/>
          <p:nvPr/>
        </p:nvSpPr>
        <p:spPr>
          <a:xfrm>
            <a:off x="3119400" y="366876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Oval 89"/>
          <p:cNvSpPr/>
          <p:nvPr/>
        </p:nvSpPr>
        <p:spPr>
          <a:xfrm>
            <a:off x="3152880" y="415440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Oval 90"/>
          <p:cNvSpPr/>
          <p:nvPr/>
        </p:nvSpPr>
        <p:spPr>
          <a:xfrm>
            <a:off x="2567160" y="412740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Oval 91"/>
          <p:cNvSpPr/>
          <p:nvPr/>
        </p:nvSpPr>
        <p:spPr>
          <a:xfrm>
            <a:off x="4508640" y="290664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Oval 92"/>
          <p:cNvSpPr/>
          <p:nvPr/>
        </p:nvSpPr>
        <p:spPr>
          <a:xfrm>
            <a:off x="4290840" y="45957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Oval 93"/>
          <p:cNvSpPr/>
          <p:nvPr/>
        </p:nvSpPr>
        <p:spPr>
          <a:xfrm>
            <a:off x="3765600" y="439092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Oval 94"/>
          <p:cNvSpPr/>
          <p:nvPr/>
        </p:nvSpPr>
        <p:spPr>
          <a:xfrm>
            <a:off x="3495600" y="476568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Oval 95"/>
          <p:cNvSpPr/>
          <p:nvPr/>
        </p:nvSpPr>
        <p:spPr>
          <a:xfrm>
            <a:off x="3673440" y="402732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Oval 96"/>
          <p:cNvSpPr/>
          <p:nvPr/>
        </p:nvSpPr>
        <p:spPr>
          <a:xfrm>
            <a:off x="2670120" y="333216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Oval 97"/>
          <p:cNvSpPr/>
          <p:nvPr/>
        </p:nvSpPr>
        <p:spPr>
          <a:xfrm>
            <a:off x="2825640" y="474804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Isosceles Triangle 98"/>
          <p:cNvSpPr/>
          <p:nvPr/>
        </p:nvSpPr>
        <p:spPr>
          <a:xfrm>
            <a:off x="4876920" y="2133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Isosceles Triangle 99"/>
          <p:cNvSpPr/>
          <p:nvPr/>
        </p:nvSpPr>
        <p:spPr>
          <a:xfrm>
            <a:off x="5416560" y="2467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Isosceles Triangle 100"/>
          <p:cNvSpPr/>
          <p:nvPr/>
        </p:nvSpPr>
        <p:spPr>
          <a:xfrm>
            <a:off x="5481720" y="2906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Isosceles Triangle 101"/>
          <p:cNvSpPr/>
          <p:nvPr/>
        </p:nvSpPr>
        <p:spPr>
          <a:xfrm>
            <a:off x="5981760" y="21718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Isosceles Triangle 102"/>
          <p:cNvSpPr/>
          <p:nvPr/>
        </p:nvSpPr>
        <p:spPr>
          <a:xfrm>
            <a:off x="6556320" y="4606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Isosceles Triangle 103"/>
          <p:cNvSpPr/>
          <p:nvPr/>
        </p:nvSpPr>
        <p:spPr>
          <a:xfrm>
            <a:off x="6688080" y="2467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Isosceles Triangle 104"/>
          <p:cNvSpPr/>
          <p:nvPr/>
        </p:nvSpPr>
        <p:spPr>
          <a:xfrm>
            <a:off x="6424560" y="3745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Isosceles Triangle 105"/>
          <p:cNvSpPr/>
          <p:nvPr/>
        </p:nvSpPr>
        <p:spPr>
          <a:xfrm>
            <a:off x="5891040" y="32558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Isosceles Triangle 106"/>
          <p:cNvSpPr/>
          <p:nvPr/>
        </p:nvSpPr>
        <p:spPr>
          <a:xfrm>
            <a:off x="6659640" y="3214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Isosceles Triangle 107"/>
          <p:cNvSpPr/>
          <p:nvPr/>
        </p:nvSpPr>
        <p:spPr>
          <a:xfrm>
            <a:off x="6116760" y="2906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Isosceles Triangle 108"/>
          <p:cNvSpPr/>
          <p:nvPr/>
        </p:nvSpPr>
        <p:spPr>
          <a:xfrm>
            <a:off x="5243400" y="31384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Isosceles Triangle 109"/>
          <p:cNvSpPr/>
          <p:nvPr/>
        </p:nvSpPr>
        <p:spPr>
          <a:xfrm>
            <a:off x="4886280" y="39862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Isosceles Triangle 110"/>
          <p:cNvSpPr/>
          <p:nvPr/>
        </p:nvSpPr>
        <p:spPr>
          <a:xfrm>
            <a:off x="5910120" y="36957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Isosceles Triangle 111"/>
          <p:cNvSpPr/>
          <p:nvPr/>
        </p:nvSpPr>
        <p:spPr>
          <a:xfrm>
            <a:off x="6784920" y="40622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Isosceles Triangle 112"/>
          <p:cNvSpPr/>
          <p:nvPr/>
        </p:nvSpPr>
        <p:spPr>
          <a:xfrm>
            <a:off x="4765680" y="2467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Isosceles Triangle 113"/>
          <p:cNvSpPr/>
          <p:nvPr/>
        </p:nvSpPr>
        <p:spPr>
          <a:xfrm>
            <a:off x="6424560" y="4276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Straight Connector 114"/>
          <p:cNvSpPr/>
          <p:nvPr/>
        </p:nvSpPr>
        <p:spPr>
          <a:xfrm>
            <a:off x="2908440" y="2054160"/>
            <a:ext cx="253512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Straight Connector 115"/>
          <p:cNvSpPr/>
          <p:nvPr/>
        </p:nvSpPr>
        <p:spPr>
          <a:xfrm>
            <a:off x="4241880" y="2054160"/>
            <a:ext cx="25779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Straight Connector 116"/>
          <p:cNvSpPr/>
          <p:nvPr/>
        </p:nvSpPr>
        <p:spPr>
          <a:xfrm>
            <a:off x="3581280" y="2022480"/>
            <a:ext cx="2573280" cy="3159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0" name="Straight Arrow Connector 117"/>
          <p:cNvCxnSpPr/>
          <p:nvPr/>
        </p:nvCxnSpPr>
        <p:spPr>
          <a:xfrm flipH="1">
            <a:off x="3971160" y="2949120"/>
            <a:ext cx="661320" cy="461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1" name="Straight Arrow Connector 118"/>
          <p:cNvCxnSpPr/>
          <p:nvPr/>
        </p:nvCxnSpPr>
        <p:spPr>
          <a:xfrm flipV="1">
            <a:off x="5000400" y="3657240"/>
            <a:ext cx="595800" cy="443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2" name="TextBox 119"/>
          <p:cNvSpPr/>
          <p:nvPr/>
        </p:nvSpPr>
        <p:spPr>
          <a:xfrm>
            <a:off x="4021200" y="2976480"/>
            <a:ext cx="3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TH SarabunPSK"/>
              </a:rPr>
              <a:t>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Box 120"/>
          <p:cNvSpPr/>
          <p:nvPr/>
        </p:nvSpPr>
        <p:spPr>
          <a:xfrm>
            <a:off x="5097600" y="3611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TH SarabunPSK"/>
              </a:rPr>
              <a:t>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419-A977-4B9F-9B74-9E951EF8003C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1"/>
          <p:cNvSpPr/>
          <p:nvPr/>
        </p:nvSpPr>
        <p:spPr>
          <a:xfrm>
            <a:off x="90360" y="1268280"/>
            <a:ext cx="8963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Epsilon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ทำหน้าที่ควบคุมการเพิ่มประสิทธิภาพในการจำแนกข้อมูล โดยจะช่วยในการลู่เข้าหาค่าไฮเปอร์แพลนที่ดีที่สุดได้ดียิ่งขึ้น เช่น สำหรับการทำงานในแต่ละรอบเพื่อจำแนกข้อมูล ค่าใช้จ่าย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Cost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หรือที่เรียกว่า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Loss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จะมีการคำนวณค่าใช้จ่ายจากการจำแนกผิดคลาสเกิดขึ้น สำหรับการทำงานในรอบถัดไป ไฮเปอร์แพลนจะมีการปรับปรุงตามข้อผิดพลาดที่พบในรอบที่ผ่านมา จนกระทั่งได้ไฮเปอร์เพลนที่มีระยะห่างตามที่กำหนด หรือดีที่สุด การกำหนด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Epsilon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จะช่วยให้ลู่เข้าหาคำตอบที่ทำให้ได้ไฮเปอร์เพลนที่ดีที่สุดได้เร็ว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3DE-0221-47A6-9B9B-7FE695FE4EC8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53600" y="1090080"/>
            <a:ext cx="8232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พารามิเตอร์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Gamma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42" name="Rectangle 45"/>
          <p:cNvSpPr/>
          <p:nvPr/>
        </p:nvSpPr>
        <p:spPr>
          <a:xfrm>
            <a:off x="758880" y="2081160"/>
            <a:ext cx="335268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Oval 46"/>
          <p:cNvSpPr/>
          <p:nvPr/>
        </p:nvSpPr>
        <p:spPr>
          <a:xfrm>
            <a:off x="1409760" y="28638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Oval 47"/>
          <p:cNvSpPr/>
          <p:nvPr/>
        </p:nvSpPr>
        <p:spPr>
          <a:xfrm>
            <a:off x="1258920" y="331776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Oval 48"/>
          <p:cNvSpPr/>
          <p:nvPr/>
        </p:nvSpPr>
        <p:spPr>
          <a:xfrm>
            <a:off x="1700280" y="331776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Oval 49"/>
          <p:cNvSpPr/>
          <p:nvPr/>
        </p:nvSpPr>
        <p:spPr>
          <a:xfrm>
            <a:off x="1251000" y="372420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Oval 50"/>
          <p:cNvSpPr/>
          <p:nvPr/>
        </p:nvSpPr>
        <p:spPr>
          <a:xfrm>
            <a:off x="1928880" y="295128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Oval 51"/>
          <p:cNvSpPr/>
          <p:nvPr/>
        </p:nvSpPr>
        <p:spPr>
          <a:xfrm>
            <a:off x="2111400" y="356724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Oval 52"/>
          <p:cNvSpPr/>
          <p:nvPr/>
        </p:nvSpPr>
        <p:spPr>
          <a:xfrm>
            <a:off x="1625760" y="39816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Isosceles Triangle 53"/>
          <p:cNvSpPr/>
          <p:nvPr/>
        </p:nvSpPr>
        <p:spPr>
          <a:xfrm>
            <a:off x="2435400" y="21574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Isosceles Triangle 54"/>
          <p:cNvSpPr/>
          <p:nvPr/>
        </p:nvSpPr>
        <p:spPr>
          <a:xfrm>
            <a:off x="232884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Isosceles Triangle 55"/>
          <p:cNvSpPr/>
          <p:nvPr/>
        </p:nvSpPr>
        <p:spPr>
          <a:xfrm>
            <a:off x="3032280" y="2532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Isosceles Triangle 56"/>
          <p:cNvSpPr/>
          <p:nvPr/>
        </p:nvSpPr>
        <p:spPr>
          <a:xfrm>
            <a:off x="2652840" y="29811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Isosceles Triangle 57"/>
          <p:cNvSpPr/>
          <p:nvPr/>
        </p:nvSpPr>
        <p:spPr>
          <a:xfrm>
            <a:off x="2803680" y="3833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Isosceles Triangle 58"/>
          <p:cNvSpPr/>
          <p:nvPr/>
        </p:nvSpPr>
        <p:spPr>
          <a:xfrm>
            <a:off x="3005280" y="3357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Isosceles Triangle 59"/>
          <p:cNvSpPr/>
          <p:nvPr/>
        </p:nvSpPr>
        <p:spPr>
          <a:xfrm>
            <a:off x="1751040" y="25160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Isosceles Triangle 60"/>
          <p:cNvSpPr/>
          <p:nvPr/>
        </p:nvSpPr>
        <p:spPr>
          <a:xfrm>
            <a:off x="2390760" y="3546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Isosceles Triangle 61"/>
          <p:cNvSpPr/>
          <p:nvPr/>
        </p:nvSpPr>
        <p:spPr>
          <a:xfrm>
            <a:off x="3438360" y="2684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Isosceles Triangle 62"/>
          <p:cNvSpPr/>
          <p:nvPr/>
        </p:nvSpPr>
        <p:spPr>
          <a:xfrm>
            <a:off x="3235320" y="31100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Isosceles Triangle 63"/>
          <p:cNvSpPr/>
          <p:nvPr/>
        </p:nvSpPr>
        <p:spPr>
          <a:xfrm>
            <a:off x="3460680" y="37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Oval 64"/>
          <p:cNvSpPr/>
          <p:nvPr/>
        </p:nvSpPr>
        <p:spPr>
          <a:xfrm>
            <a:off x="1684440" y="367020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Oval 65"/>
          <p:cNvSpPr/>
          <p:nvPr/>
        </p:nvSpPr>
        <p:spPr>
          <a:xfrm>
            <a:off x="911160" y="39099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Oval 66"/>
          <p:cNvSpPr/>
          <p:nvPr/>
        </p:nvSpPr>
        <p:spPr>
          <a:xfrm>
            <a:off x="981000" y="290988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Oval 67"/>
          <p:cNvSpPr/>
          <p:nvPr/>
        </p:nvSpPr>
        <p:spPr>
          <a:xfrm>
            <a:off x="2505240" y="395748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Rectangle 68"/>
          <p:cNvSpPr/>
          <p:nvPr/>
        </p:nvSpPr>
        <p:spPr>
          <a:xfrm>
            <a:off x="5081760" y="2081160"/>
            <a:ext cx="335268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Oval 69"/>
          <p:cNvSpPr/>
          <p:nvPr/>
        </p:nvSpPr>
        <p:spPr>
          <a:xfrm>
            <a:off x="5732640" y="286380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Oval 70"/>
          <p:cNvSpPr/>
          <p:nvPr/>
        </p:nvSpPr>
        <p:spPr>
          <a:xfrm>
            <a:off x="5581800" y="331776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Oval 71"/>
          <p:cNvSpPr/>
          <p:nvPr/>
        </p:nvSpPr>
        <p:spPr>
          <a:xfrm>
            <a:off x="6022800" y="3317760"/>
            <a:ext cx="16380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Oval 72"/>
          <p:cNvSpPr/>
          <p:nvPr/>
        </p:nvSpPr>
        <p:spPr>
          <a:xfrm>
            <a:off x="5572080" y="372420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Oval 73"/>
          <p:cNvSpPr/>
          <p:nvPr/>
        </p:nvSpPr>
        <p:spPr>
          <a:xfrm>
            <a:off x="6251400" y="295128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Oval 74"/>
          <p:cNvSpPr/>
          <p:nvPr/>
        </p:nvSpPr>
        <p:spPr>
          <a:xfrm>
            <a:off x="6432480" y="35672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Oval 75"/>
          <p:cNvSpPr/>
          <p:nvPr/>
        </p:nvSpPr>
        <p:spPr>
          <a:xfrm>
            <a:off x="5948280" y="398160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Isosceles Triangle 76"/>
          <p:cNvSpPr/>
          <p:nvPr/>
        </p:nvSpPr>
        <p:spPr>
          <a:xfrm>
            <a:off x="6757920" y="21574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Isosceles Triangle 77"/>
          <p:cNvSpPr/>
          <p:nvPr/>
        </p:nvSpPr>
        <p:spPr>
          <a:xfrm>
            <a:off x="665172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Isosceles Triangle 78"/>
          <p:cNvSpPr/>
          <p:nvPr/>
        </p:nvSpPr>
        <p:spPr>
          <a:xfrm>
            <a:off x="7353360" y="2532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Isosceles Triangle 79"/>
          <p:cNvSpPr/>
          <p:nvPr/>
        </p:nvSpPr>
        <p:spPr>
          <a:xfrm>
            <a:off x="6973920" y="29811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Isosceles Triangle 80"/>
          <p:cNvSpPr/>
          <p:nvPr/>
        </p:nvSpPr>
        <p:spPr>
          <a:xfrm>
            <a:off x="7124760" y="3833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Isosceles Triangle 81"/>
          <p:cNvSpPr/>
          <p:nvPr/>
        </p:nvSpPr>
        <p:spPr>
          <a:xfrm>
            <a:off x="7326360" y="3357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Isosceles Triangle 121"/>
          <p:cNvSpPr/>
          <p:nvPr/>
        </p:nvSpPr>
        <p:spPr>
          <a:xfrm>
            <a:off x="6072120" y="25160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Isosceles Triangle 122"/>
          <p:cNvSpPr/>
          <p:nvPr/>
        </p:nvSpPr>
        <p:spPr>
          <a:xfrm>
            <a:off x="6713640" y="3546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Isosceles Triangle 123"/>
          <p:cNvSpPr/>
          <p:nvPr/>
        </p:nvSpPr>
        <p:spPr>
          <a:xfrm>
            <a:off x="7759800" y="2684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Isosceles Triangle 124"/>
          <p:cNvSpPr/>
          <p:nvPr/>
        </p:nvSpPr>
        <p:spPr>
          <a:xfrm>
            <a:off x="7556400" y="31100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Isosceles Triangle 125"/>
          <p:cNvSpPr/>
          <p:nvPr/>
        </p:nvSpPr>
        <p:spPr>
          <a:xfrm>
            <a:off x="7781760" y="37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Oval 126"/>
          <p:cNvSpPr/>
          <p:nvPr/>
        </p:nvSpPr>
        <p:spPr>
          <a:xfrm>
            <a:off x="6005520" y="367020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Oval 127"/>
          <p:cNvSpPr/>
          <p:nvPr/>
        </p:nvSpPr>
        <p:spPr>
          <a:xfrm>
            <a:off x="5232240" y="39099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Oval 128"/>
          <p:cNvSpPr/>
          <p:nvPr/>
        </p:nvSpPr>
        <p:spPr>
          <a:xfrm>
            <a:off x="5303880" y="290988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Oval 129"/>
          <p:cNvSpPr/>
          <p:nvPr/>
        </p:nvSpPr>
        <p:spPr>
          <a:xfrm>
            <a:off x="6827760" y="395748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Freeform 130"/>
          <p:cNvSpPr/>
          <p:nvPr/>
        </p:nvSpPr>
        <p:spPr>
          <a:xfrm>
            <a:off x="758880" y="2637000"/>
            <a:ext cx="1995480" cy="1589040"/>
          </a:xfrm>
          <a:custGeom>
            <a:avLst/>
            <a:gdLst/>
            <a:ahLst/>
            <a:rect l="l" t="t" r="r" b="b"/>
            <a:pathLst>
              <a:path w="1995854" h="1589129">
                <a:moveTo>
                  <a:pt x="0" y="15306"/>
                </a:moveTo>
                <a:cubicBezTo>
                  <a:pt x="497498" y="-10339"/>
                  <a:pt x="994996" y="-35983"/>
                  <a:pt x="1327638" y="226321"/>
                </a:cubicBezTo>
                <a:cubicBezTo>
                  <a:pt x="1660280" y="488625"/>
                  <a:pt x="1828067" y="1038877"/>
                  <a:pt x="1995854" y="1589129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Freeform 131"/>
          <p:cNvSpPr/>
          <p:nvPr/>
        </p:nvSpPr>
        <p:spPr>
          <a:xfrm>
            <a:off x="5303880" y="2098800"/>
            <a:ext cx="2313000" cy="2119320"/>
          </a:xfrm>
          <a:custGeom>
            <a:avLst/>
            <a:gdLst/>
            <a:ahLst/>
            <a:rect l="l" t="t" r="r" b="b"/>
            <a:pathLst>
              <a:path w="2312377" h="2118946">
                <a:moveTo>
                  <a:pt x="0" y="0"/>
                </a:moveTo>
                <a:cubicBezTo>
                  <a:pt x="141409" y="263769"/>
                  <a:pt x="282819" y="527538"/>
                  <a:pt x="465992" y="641838"/>
                </a:cubicBezTo>
                <a:cubicBezTo>
                  <a:pt x="649165" y="756138"/>
                  <a:pt x="948104" y="523142"/>
                  <a:pt x="1099039" y="685800"/>
                </a:cubicBezTo>
                <a:cubicBezTo>
                  <a:pt x="1249974" y="848458"/>
                  <a:pt x="1169377" y="1378926"/>
                  <a:pt x="1371600" y="1617784"/>
                </a:cubicBezTo>
                <a:cubicBezTo>
                  <a:pt x="1573823" y="1856642"/>
                  <a:pt x="1943100" y="1987794"/>
                  <a:pt x="2312377" y="211894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TextBox 132"/>
          <p:cNvSpPr/>
          <p:nvPr/>
        </p:nvSpPr>
        <p:spPr>
          <a:xfrm>
            <a:off x="1901880" y="5281560"/>
            <a:ext cx="190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Gamma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น้อย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Box 133"/>
          <p:cNvSpPr/>
          <p:nvPr/>
        </p:nvSpPr>
        <p:spPr>
          <a:xfrm>
            <a:off x="6093000" y="528156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Gamma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มาก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A2D8-B8F0-4BE0-942C-B43B877F95AD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1"/>
          <p:cNvSpPr/>
          <p:nvPr/>
        </p:nvSpPr>
        <p:spPr>
          <a:xfrm>
            <a:off x="179280" y="1268280"/>
            <a:ext cx="8785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ป็นพารามิเตอร์สำหรับ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Kernel Radial Basis Function (RBF Kernel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ป็น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Kernel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ที่ใช้จำแนกข้อมูลที่มีลักษณะไม่เชิงเส้น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สำหรับการจำแนกในสองมิติที่ไม่สามารถแบ่งแยกข้อมูลออกเป็นสองคลาสได้ โดยจะใช้การแก้ปัญหาไม่เชิงเส้น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Non-Linear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ข้ามาจำแนกข้อมูลออกเป็นสองคลาส โดย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จะทำหน้าที่ควบคุมความโค้งของเส้นไฮเปอร์แพลน โดย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มีค่าน้อยส่งผลให้ความกว้างของขอบมีขนาดกว้างขึ้นทำให้มีความยืดหยุ่นในการจำแนกข้อมูลได้ แต่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มีค่าสูงจะส่งผลให้ความกว้างของขอบมีขนาดแคบทำให้อาจจะเกิดปัญหา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Over Fitting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chine learn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y = f(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ining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abeled examp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, …,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timate the prediction functi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inimizing the prediction error on the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never before s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utput the predicted valu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 = f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Straight Arrow Connector 4"/>
          <p:cNvCxnSpPr/>
          <p:nvPr/>
        </p:nvCxnSpPr>
        <p:spPr>
          <a:xfrm flipV="1">
            <a:off x="3580200" y="2591640"/>
            <a:ext cx="2520" cy="68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4" name="Straight Arrow Connector 6"/>
          <p:cNvCxnSpPr/>
          <p:nvPr/>
        </p:nvCxnSpPr>
        <p:spPr>
          <a:xfrm flipV="1">
            <a:off x="4721760" y="2591640"/>
            <a:ext cx="396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5" name="Straight Arrow Connector 7"/>
          <p:cNvCxnSpPr/>
          <p:nvPr/>
        </p:nvCxnSpPr>
        <p:spPr>
          <a:xfrm flipH="1" flipV="1">
            <a:off x="5333760" y="2590200"/>
            <a:ext cx="9151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6" name="TextBox 8"/>
          <p:cNvSpPr/>
          <p:nvPr/>
        </p:nvSpPr>
        <p:spPr>
          <a:xfrm>
            <a:off x="3218400" y="3276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Box 9"/>
          <p:cNvSpPr/>
          <p:nvPr/>
        </p:nvSpPr>
        <p:spPr>
          <a:xfrm>
            <a:off x="3822840" y="3276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prediction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Box 10"/>
          <p:cNvSpPr/>
          <p:nvPr/>
        </p:nvSpPr>
        <p:spPr>
          <a:xfrm>
            <a:off x="5499000" y="3276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Image 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Box 11"/>
          <p:cNvSpPr/>
          <p:nvPr/>
        </p:nvSpPr>
        <p:spPr>
          <a:xfrm>
            <a:off x="7318800" y="6581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Slide credit: L. Lazebn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ounded Rectangle 29"/>
          <p:cNvSpPr/>
          <p:nvPr/>
        </p:nvSpPr>
        <p:spPr>
          <a:xfrm>
            <a:off x="7315200" y="556272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ounded Rectangle 9"/>
          <p:cNvSpPr/>
          <p:nvPr/>
        </p:nvSpPr>
        <p:spPr>
          <a:xfrm>
            <a:off x="5257800" y="9907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La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Group 12"/>
          <p:cNvGrpSpPr/>
          <p:nvPr/>
        </p:nvGrpSpPr>
        <p:grpSpPr>
          <a:xfrm>
            <a:off x="76320" y="1569960"/>
            <a:ext cx="2438280" cy="3078360"/>
            <a:chOff x="76320" y="1569960"/>
            <a:chExt cx="2438280" cy="3078360"/>
          </a:xfrm>
        </p:grpSpPr>
        <p:sp>
          <p:nvSpPr>
            <p:cNvPr id="1134" name="TextBox 7"/>
            <p:cNvSpPr/>
            <p:nvPr/>
          </p:nvSpPr>
          <p:spPr>
            <a:xfrm>
              <a:off x="380880" y="156996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Training Imag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Rounded Rectangle 10"/>
            <p:cNvSpPr/>
            <p:nvPr/>
          </p:nvSpPr>
          <p:spPr>
            <a:xfrm>
              <a:off x="76320" y="1603080"/>
              <a:ext cx="2438280" cy="3045240"/>
            </a:xfrm>
            <a:custGeom>
              <a:avLst/>
              <a:gdLst>
                <a:gd name="textAreaLeft" fmla="*/ 118800 w 2438280"/>
                <a:gd name="textAreaRight" fmla="*/ 2319480 w 2438280"/>
                <a:gd name="textAreaTop" fmla="*/ 118800 h 3045240"/>
                <a:gd name="textAreaBottom" fmla="*/ 2926440 h 3045240"/>
              </a:gdLst>
              <a:ahLst/>
              <a:rect l="textAreaLeft" t="textAreaTop" r="textAreaRight" b="textAreaBottom"/>
              <a:pathLst>
                <a:path w="21600" h="26976">
                  <a:moveTo>
                    <a:pt x="3600" y="0"/>
                  </a:moveTo>
                  <a:arcTo wR="3600" hR="3600" stAng="16200000" swAng="-5400000"/>
                  <a:lnTo>
                    <a:pt x="0" y="23376"/>
                  </a:lnTo>
                  <a:arcTo wR="3600" hR="3600" stAng="10800000" swAng="-5400000"/>
                  <a:lnTo>
                    <a:pt x="18000" y="269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Rounded Rectangle 11"/>
          <p:cNvSpPr/>
          <p:nvPr/>
        </p:nvSpPr>
        <p:spPr>
          <a:xfrm>
            <a:off x="5410080" y="2438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552600" y="83808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ounded Rectangle 14"/>
          <p:cNvSpPr/>
          <p:nvPr/>
        </p:nvSpPr>
        <p:spPr>
          <a:xfrm>
            <a:off x="3200400" y="24382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ight Arrow 15"/>
          <p:cNvSpPr/>
          <p:nvPr/>
        </p:nvSpPr>
        <p:spPr>
          <a:xfrm>
            <a:off x="2590920" y="274320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ight Arrow 16"/>
          <p:cNvSpPr/>
          <p:nvPr/>
        </p:nvSpPr>
        <p:spPr>
          <a:xfrm>
            <a:off x="4800600" y="274320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ight Arrow 17"/>
          <p:cNvSpPr/>
          <p:nvPr/>
        </p:nvSpPr>
        <p:spPr>
          <a:xfrm rot="5400000">
            <a:off x="5820840" y="19810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ounded Rectangle 18"/>
          <p:cNvSpPr/>
          <p:nvPr/>
        </p:nvSpPr>
        <p:spPr>
          <a:xfrm>
            <a:off x="2743200" y="556272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ight Arrow 19"/>
          <p:cNvSpPr/>
          <p:nvPr/>
        </p:nvSpPr>
        <p:spPr>
          <a:xfrm>
            <a:off x="2133720" y="586728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Box 20"/>
          <p:cNvSpPr/>
          <p:nvPr/>
        </p:nvSpPr>
        <p:spPr>
          <a:xfrm>
            <a:off x="617040" y="48006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Box 21"/>
          <p:cNvSpPr/>
          <p:nvPr/>
        </p:nvSpPr>
        <p:spPr>
          <a:xfrm>
            <a:off x="448560" y="6396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Test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ight Arrow 22"/>
          <p:cNvSpPr/>
          <p:nvPr/>
        </p:nvSpPr>
        <p:spPr>
          <a:xfrm>
            <a:off x="6858000" y="274320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ounded Rectangle 23"/>
          <p:cNvSpPr/>
          <p:nvPr/>
        </p:nvSpPr>
        <p:spPr>
          <a:xfrm>
            <a:off x="7543800" y="24382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ounded Rectangle 24"/>
          <p:cNvSpPr/>
          <p:nvPr/>
        </p:nvSpPr>
        <p:spPr>
          <a:xfrm>
            <a:off x="5181480" y="556272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Right Arrow 25"/>
          <p:cNvSpPr/>
          <p:nvPr/>
        </p:nvSpPr>
        <p:spPr>
          <a:xfrm>
            <a:off x="4572000" y="586728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30"/>
          <p:cNvSpPr/>
          <p:nvPr/>
        </p:nvSpPr>
        <p:spPr>
          <a:xfrm>
            <a:off x="6324480" y="65818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Slide credit: D. Hoiem and L. Lazebn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ight Arrow 31"/>
          <p:cNvSpPr/>
          <p:nvPr/>
        </p:nvSpPr>
        <p:spPr>
          <a:xfrm>
            <a:off x="6934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2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2238480" cy="190512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2"/>
          <a:stretch/>
        </p:blipFill>
        <p:spPr>
          <a:xfrm>
            <a:off x="914400" y="563868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81C-7FDE-4907-AA53-FB327B5E9706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23" descr=""/>
          <p:cNvPicPr/>
          <p:nvPr/>
        </p:nvPicPr>
        <p:blipFill>
          <a:blip r:embed="rId1"/>
          <a:stretch/>
        </p:blipFill>
        <p:spPr>
          <a:xfrm>
            <a:off x="179280" y="2411280"/>
            <a:ext cx="6985080" cy="380052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25"/>
          <p:cNvSpPr/>
          <p:nvPr/>
        </p:nvSpPr>
        <p:spPr>
          <a:xfrm>
            <a:off x="65160" y="64101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ngsana New"/>
              </a:rPr>
              <a:t>http://www.myarduino.net/b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7ADD-84D9-497A-820C-B70AB77F683A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8" name="Picture 1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7850160" cy="3040200"/>
          </a:xfrm>
          <a:prstGeom prst="rect">
            <a:avLst/>
          </a:prstGeom>
          <a:ln w="0">
            <a:noFill/>
          </a:ln>
        </p:spPr>
      </p:pic>
      <p:sp>
        <p:nvSpPr>
          <p:cNvPr id="1169" name="Rectangle 9"/>
          <p:cNvSpPr/>
          <p:nvPr/>
        </p:nvSpPr>
        <p:spPr>
          <a:xfrm>
            <a:off x="65160" y="64101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ngsana New"/>
              </a:rPr>
              <a:t>http://www.myarduino.net/b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B5B4-763B-4643-98BA-7E1AF12725FE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6" name="Picture 2" descr=""/>
          <p:cNvPicPr/>
          <p:nvPr/>
        </p:nvPicPr>
        <p:blipFill>
          <a:blip r:embed="rId1"/>
          <a:stretch/>
        </p:blipFill>
        <p:spPr>
          <a:xfrm>
            <a:off x="65160" y="2428920"/>
            <a:ext cx="8202600" cy="3448080"/>
          </a:xfrm>
          <a:prstGeom prst="rect">
            <a:avLst/>
          </a:prstGeom>
          <a:ln w="0">
            <a:noFill/>
          </a:ln>
        </p:spPr>
      </p:pic>
      <p:sp>
        <p:nvSpPr>
          <p:cNvPr id="1177" name="Rectangle 9"/>
          <p:cNvSpPr/>
          <p:nvPr/>
        </p:nvSpPr>
        <p:spPr>
          <a:xfrm>
            <a:off x="65160" y="64101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ngsana New"/>
              </a:rPr>
              <a:t>http://www.myarduino.net/b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9B80-5C66-4597-AA30-5A1140EA05F6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ounded Rectangle 9"/>
          <p:cNvSpPr/>
          <p:nvPr/>
        </p:nvSpPr>
        <p:spPr>
          <a:xfrm>
            <a:off x="5398920" y="115416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ight Arrow 10"/>
          <p:cNvSpPr/>
          <p:nvPr/>
        </p:nvSpPr>
        <p:spPr>
          <a:xfrm>
            <a:off x="47894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ight Arrow 12"/>
          <p:cNvSpPr/>
          <p:nvPr/>
        </p:nvSpPr>
        <p:spPr>
          <a:xfrm>
            <a:off x="68468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ounded Rectangle 13"/>
          <p:cNvSpPr/>
          <p:nvPr/>
        </p:nvSpPr>
        <p:spPr>
          <a:xfrm>
            <a:off x="7532640" y="11541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ounded Rectangle 31"/>
          <p:cNvSpPr/>
          <p:nvPr/>
        </p:nvSpPr>
        <p:spPr>
          <a:xfrm>
            <a:off x="5284800" y="24120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La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1454040" y="3284640"/>
          <a:ext cx="6672240" cy="1854000"/>
        </p:xfrm>
        <a:graphic>
          <a:graphicData uri="http://schemas.openxmlformats.org/drawingml/2006/table">
            <a:tbl>
              <a:tblPr/>
              <a:tblGrid>
                <a:gridCol w="666720"/>
                <a:gridCol w="668520"/>
                <a:gridCol w="666720"/>
                <a:gridCol w="666720"/>
                <a:gridCol w="666720"/>
                <a:gridCol w="668520"/>
                <a:gridCol w="666720"/>
                <a:gridCol w="666720"/>
                <a:gridCol w="614160"/>
                <a:gridCol w="72072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ti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d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ti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190" name="Straight Arrow Connector 33"/>
          <p:cNvCxnSpPr/>
          <p:nvPr/>
        </p:nvCxnSpPr>
        <p:spPr>
          <a:xfrm flipH="1">
            <a:off x="5322600" y="2205000"/>
            <a:ext cx="545040" cy="93744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66DF-0123-4288-AF9B-3968D5C0332D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ounded Rectangle 9"/>
          <p:cNvSpPr/>
          <p:nvPr/>
        </p:nvSpPr>
        <p:spPr>
          <a:xfrm>
            <a:off x="5398920" y="115416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ight Arrow 10"/>
          <p:cNvSpPr/>
          <p:nvPr/>
        </p:nvSpPr>
        <p:spPr>
          <a:xfrm>
            <a:off x="47894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ight Arrow 12"/>
          <p:cNvSpPr/>
          <p:nvPr/>
        </p:nvSpPr>
        <p:spPr>
          <a:xfrm>
            <a:off x="68468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ounded Rectangle 13"/>
          <p:cNvSpPr/>
          <p:nvPr/>
        </p:nvSpPr>
        <p:spPr>
          <a:xfrm>
            <a:off x="7532640" y="11541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1" name="Picture 2" descr="ผลการค้นหารูปภาพสำหรับ blackbox"/>
          <p:cNvPicPr/>
          <p:nvPr/>
        </p:nvPicPr>
        <p:blipFill>
          <a:blip r:embed="rId1"/>
          <a:stretch/>
        </p:blipFill>
        <p:spPr>
          <a:xfrm>
            <a:off x="5464080" y="2766960"/>
            <a:ext cx="3679920" cy="2292480"/>
          </a:xfrm>
          <a:prstGeom prst="rect">
            <a:avLst/>
          </a:prstGeom>
          <a:ln w="0">
            <a:noFill/>
          </a:ln>
        </p:spPr>
      </p:pic>
      <p:cxnSp>
        <p:nvCxnSpPr>
          <p:cNvPr id="1202" name="Straight Arrow Connector 2"/>
          <p:cNvCxnSpPr/>
          <p:nvPr/>
        </p:nvCxnSpPr>
        <p:spPr>
          <a:xfrm>
            <a:off x="7619760" y="2152440"/>
            <a:ext cx="113400" cy="72612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203" name="Straight Arrow Connector 17"/>
          <p:cNvCxnSpPr/>
          <p:nvPr/>
        </p:nvCxnSpPr>
        <p:spPr>
          <a:xfrm flipH="1">
            <a:off x="4028400" y="2068200"/>
            <a:ext cx="3351960" cy="81036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  <p:pic>
        <p:nvPicPr>
          <p:cNvPr id="1204" name="Picture 4" descr="http://pngimg.com/upload/tree_PNG215.png"/>
          <p:cNvPicPr/>
          <p:nvPr/>
        </p:nvPicPr>
        <p:blipFill>
          <a:blip r:embed="rId2"/>
          <a:stretch/>
        </p:blipFill>
        <p:spPr>
          <a:xfrm>
            <a:off x="2209680" y="2192400"/>
            <a:ext cx="2011320" cy="2795400"/>
          </a:xfrm>
          <a:prstGeom prst="rect">
            <a:avLst/>
          </a:prstGeom>
          <a:ln w="0">
            <a:noFill/>
          </a:ln>
        </p:spPr>
      </p:pic>
      <p:cxnSp>
        <p:nvCxnSpPr>
          <p:cNvPr id="1205" name="Straight Arrow Connector 20"/>
          <p:cNvCxnSpPr/>
          <p:nvPr/>
        </p:nvCxnSpPr>
        <p:spPr>
          <a:xfrm flipH="1">
            <a:off x="4571640" y="2068560"/>
            <a:ext cx="2961360" cy="276912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  <p:pic>
        <p:nvPicPr>
          <p:cNvPr id="1206" name="Picture 4" descr="ผลการค้นหารูปภาพสำหรับ Probability"/>
          <p:cNvPicPr/>
          <p:nvPr/>
        </p:nvPicPr>
        <p:blipFill>
          <a:blip r:embed="rId3"/>
          <a:stretch/>
        </p:blipFill>
        <p:spPr>
          <a:xfrm>
            <a:off x="2871720" y="5002200"/>
            <a:ext cx="3245040" cy="1569960"/>
          </a:xfrm>
          <a:prstGeom prst="rect">
            <a:avLst/>
          </a:prstGeom>
          <a:ln w="0">
            <a:noFill/>
          </a:ln>
        </p:spPr>
      </p:pic>
      <p:sp>
        <p:nvSpPr>
          <p:cNvPr id="1207" name="Rounded Rectangle 31"/>
          <p:cNvSpPr/>
          <p:nvPr/>
        </p:nvSpPr>
        <p:spPr>
          <a:xfrm>
            <a:off x="5284800" y="24120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La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18:47:44Z</dcterms:created>
  <dc:creator>Richard J. Roiger</dc:creator>
  <dc:description/>
  <cp:keywords>Addison-Wesley Publishing</cp:keywords>
  <dc:language>en-US</dc:language>
  <cp:lastModifiedBy>Zaguraba Kongchai</cp:lastModifiedBy>
  <cp:lastPrinted>2001-11-21T22:42:06Z</cp:lastPrinted>
  <dcterms:modified xsi:type="dcterms:W3CDTF">2018-01-18T08:05:28Z</dcterms:modified>
  <cp:revision>460</cp:revision>
  <dc:subject/>
  <dc:title>Data Mining A Tutorial-Based Primer</dc:title>
</cp:coreProperties>
</file>